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648-B35B-4569-BD04-D9C2E24CF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re are two lists at level L that point into the same list at level L-1, namely the mother list and the father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nd for every node at level L-1 there is a node in the mother list and a node in the father list that thinks that this node is its ch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owever, because the structure is randomized, there may be multiple fathers or mothers for a given ch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e call this situation a ‘custody’ batt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okes: Custody battles (Two fathers think that you’re their child, but you only think one is (biological father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alf-brothers and sisters are extremely 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all genealogical family trees are valid Family Tree data structures. For example, your brother’s wife is your wife’s sister, which is not true in gener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s promised, each node has only O(1) pointers (actually nine of th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e: Two parents, two siblings, one child pointer, two pointers in name ID list, and two pointers in numeric ID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okes: Custody battles (Two fathers think that you’re their child, but you only think one is (biological father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alf-brothers and sisters are extremely 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all genealogical family trees are valid Family Tree data structures. For example, your brother’s wife is your wife’s sister, which is not true in gener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You can randomly choose which parent pointer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des should not have to know about everyone else – not sca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pplication-level control of routing is very useful – you can’t update all the Cisco routers out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- IP multicast (1989) not yet deployed. Must be enabled at routers. No economic model. Per-group state is not sca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re now at the closest level 0 node to the destination. To find the actual destination, we switch to the name ID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xpectation, the number of remaining hops is O(log 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re now at the closest level 0 node to the destination. To find the actual destination, we switch to the name ID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xpectation, the number of remaining hops is O(log 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ach node has 2 children is expectation, expected number of hops per level is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re are log N levels so this intuitively suggests O(log N) expected performance for this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e familiar with Skip List can see a similarity to our search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re are many other examples, such as Symphon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You could also have many overlays simultaneously, ordered by different search keys – think of a database with multiple ind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fewer pointers makes this more reason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mbines ideas from Butterfly Networks and Skip L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Mention that it can be used as an in-memory data structure, with potential advantages or parallel machi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pen 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eople familiar with parallel interconnection network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 and Pastry are like a hypercube that supports dynamic inserts and delet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eroy and Koorde are respectively like Butterfly networks and de Bruijn network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kipNet and SkipGraphs use ideas from skip lists to build a hypercube ordered by arbitrary k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pply similar ideas from skip lists to Viceroy to obtain a structure ordered by arbitrary keys with only O(1) poin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andomization is not used by Hyperring, which will be presented in the next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level is not actually chosen from [0, log N] since no node knows the value of 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alysis is complicated by the fact that there are two different random numbers involved, that are not in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‘length’ I mean the number of nodes skipped over in the ordering when traversing this poi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ach list at level L+1 corresponds to a numeric ID prefix of L+1 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 node’s mother pointer points into the level L+1 list that matches the node’s numeric ID in L bits and whose L+1</a:t>
            </a:r>
            <a:r>
              <a:rPr b="0" lang="en-CA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bit is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actual node pointed to in that list is the one whose name ID is greatest but less than the given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577-6CDF-404B-B892-78FEFCB0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246920"/>
            <a:ext cx="8001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D4E-2D56-4A6D-97C1-4842F25D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24692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24692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AB7-2FDA-4FAB-8A2E-39BAE765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05740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05740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24692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24692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24692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4A2-3D81-423D-9D8A-E6707FD5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B796-627F-4991-8F8A-49CFEEA2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6753-AED7-4E18-8731-C4602A68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4439-CFEF-47F4-9B9B-1CA52F3E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5532-A20E-4E67-917D-84EB7BBF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B0F6-C658-4103-B8E3-8F8CDB59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AAFD-511F-45F8-9221-E8DE2243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24692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D3E2-439C-4018-B56F-4C4A18A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71F-1649-44D7-99C8-B45BBC85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24692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3E9D-7C8E-40B0-8E8E-89DD1E94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246920"/>
            <a:ext cx="8001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C08D-D5F8-4CDC-89CD-F5D8467D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246920"/>
            <a:ext cx="8001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AB9F-79C0-46A4-9434-4D929230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24692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24692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C4BF-6E91-44EB-83F0-EBEDE2EE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05740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05740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24692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24692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246920"/>
            <a:ext cx="2576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3D93-B4B8-4545-B823-B9200833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E6C-214B-42CB-B15F-417E65AD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B2E-7576-4BA9-88D5-853D5F71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A41-E3D6-4EA9-8531-1CA8C5D7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D83-F8C8-48B3-A5FF-5313A17B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24692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82E-C2AC-471E-8F1C-6A4D5FC7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24692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C15-2361-42C8-BFB9-C5D12057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246920"/>
            <a:ext cx="8001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4CA-DEE2-4A57-83AE-DCCB92DE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048D-2EF4-4C9E-9175-B4DCF4CC824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600200"/>
            <a:ext cx="7391520" cy="318960"/>
            <a:chOff x="228600" y="1600200"/>
            <a:chExt cx="7391520" cy="318960"/>
          </a:xfrm>
        </p:grpSpPr>
        <p:sp>
          <p:nvSpPr>
            <p:cNvPr id="10" name=""/>
            <p:cNvSpPr/>
            <p:nvPr/>
          </p:nvSpPr>
          <p:spPr>
            <a:xfrm>
              <a:off x="609480" y="16002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6002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4600-C56E-4543-8F13-F47DC2858EC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165320"/>
            <a:ext cx="81532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3366"/>
                </a:solidFill>
                <a:latin typeface="Arial"/>
              </a:rPr>
              <a:t>Family Trees</a:t>
            </a:r>
            <a:br>
              <a:rPr sz="3600"/>
            </a:br>
            <a:r>
              <a:rPr b="1" lang="en-CA" sz="2800" spc="-1" strike="noStrike">
                <a:solidFill>
                  <a:srgbClr val="003366"/>
                </a:solidFill>
                <a:latin typeface="Arial"/>
              </a:rPr>
              <a:t>An ordered dictionary with optimal</a:t>
            </a:r>
            <a:br>
              <a:rPr sz="2800"/>
            </a:br>
            <a:r>
              <a:rPr b="1" lang="en-CA" sz="2800" spc="-1" strike="noStrike">
                <a:solidFill>
                  <a:srgbClr val="003366"/>
                </a:solidFill>
                <a:latin typeface="Arial"/>
              </a:rPr>
              <a:t>congestion, locality, degree, and search tim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3657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66"/>
                </a:solidFill>
                <a:latin typeface="Arial"/>
              </a:rPr>
              <a:t>Kevin Zatloukal &amp; Nick Harve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mit-blackred-header1" descr=""/>
          <p:cNvPicPr/>
          <p:nvPr/>
        </p:nvPicPr>
        <p:blipFill>
          <a:blip r:embed="rId1"/>
          <a:stretch/>
        </p:blipFill>
        <p:spPr>
          <a:xfrm>
            <a:off x="4741920" y="4232160"/>
            <a:ext cx="40798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Example Family Tree Structu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496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500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504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508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512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516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520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8204040" y="3695760"/>
            <a:ext cx="739800" cy="674640"/>
            <a:chOff x="8204040" y="3695760"/>
            <a:chExt cx="739800" cy="674640"/>
          </a:xfrm>
        </p:grpSpPr>
        <p:sp>
          <p:nvSpPr>
            <p:cNvPr id="524" name=""/>
            <p:cNvSpPr/>
            <p:nvPr/>
          </p:nvSpPr>
          <p:spPr>
            <a:xfrm>
              <a:off x="8223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3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04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528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571840" y="2552760"/>
            <a:ext cx="739800" cy="674640"/>
            <a:chOff x="2571840" y="2552760"/>
            <a:chExt cx="739800" cy="674640"/>
          </a:xfrm>
        </p:grpSpPr>
        <p:sp>
          <p:nvSpPr>
            <p:cNvPr id="532" name=""/>
            <p:cNvSpPr/>
            <p:nvPr/>
          </p:nvSpPr>
          <p:spPr>
            <a:xfrm>
              <a:off x="25909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909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718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536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443480" y="2552760"/>
            <a:ext cx="739800" cy="674640"/>
            <a:chOff x="4443480" y="2552760"/>
            <a:chExt cx="739800" cy="674640"/>
          </a:xfrm>
        </p:grpSpPr>
        <p:sp>
          <p:nvSpPr>
            <p:cNvPr id="540" name=""/>
            <p:cNvSpPr/>
            <p:nvPr/>
          </p:nvSpPr>
          <p:spPr>
            <a:xfrm>
              <a:off x="44625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625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434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544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548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552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8204040" y="2552760"/>
            <a:ext cx="739800" cy="674640"/>
            <a:chOff x="8204040" y="2552760"/>
            <a:chExt cx="739800" cy="674640"/>
          </a:xfrm>
        </p:grpSpPr>
        <p:sp>
          <p:nvSpPr>
            <p:cNvPr id="556" name=""/>
            <p:cNvSpPr/>
            <p:nvPr/>
          </p:nvSpPr>
          <p:spPr>
            <a:xfrm>
              <a:off x="8223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23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204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560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564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568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443480" y="1320840"/>
            <a:ext cx="739800" cy="674640"/>
            <a:chOff x="4443480" y="1320840"/>
            <a:chExt cx="739800" cy="674640"/>
          </a:xfrm>
        </p:grpSpPr>
        <p:sp>
          <p:nvSpPr>
            <p:cNvPr id="572" name=""/>
            <p:cNvSpPr/>
            <p:nvPr/>
          </p:nvSpPr>
          <p:spPr>
            <a:xfrm>
              <a:off x="44625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625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434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576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580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584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8204040" y="1320840"/>
            <a:ext cx="739800" cy="674640"/>
            <a:chOff x="8204040" y="1320840"/>
            <a:chExt cx="739800" cy="674640"/>
          </a:xfrm>
        </p:grpSpPr>
        <p:sp>
          <p:nvSpPr>
            <p:cNvPr id="588" name=""/>
            <p:cNvSpPr/>
            <p:nvPr/>
          </p:nvSpPr>
          <p:spPr>
            <a:xfrm>
              <a:off x="8223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23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04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Level </a:t>
            </a:r>
            <a:r>
              <a:rPr b="0" i="1" lang="en-CA" sz="26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 nodes have a “</a:t>
            </a:r>
            <a:r>
              <a:rPr b="0" lang="en-CA" sz="2600" spc="-1" strike="noStrike">
                <a:solidFill>
                  <a:srgbClr val="3333ff"/>
                </a:solidFill>
                <a:latin typeface="Arial"/>
              </a:rPr>
              <a:t>father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pointer to the nearest node at level </a:t>
            </a:r>
            <a:r>
              <a:rPr b="0" i="1" lang="en-CA" sz="2600" spc="-1" strike="noStrike">
                <a:solidFill>
                  <a:srgbClr val="003366"/>
                </a:solidFill>
                <a:latin typeface="Arial"/>
              </a:rPr>
              <a:t>L+1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 whose numeric ID matches in </a:t>
            </a:r>
            <a:r>
              <a:rPr b="0" i="1" lang="en-CA" sz="26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 bits and whose </a:t>
            </a:r>
            <a:r>
              <a:rPr b="0" i="1" lang="en-CA" sz="2600" spc="-1" strike="noStrike">
                <a:solidFill>
                  <a:srgbClr val="003366"/>
                </a:solidFill>
                <a:latin typeface="Arial"/>
              </a:rPr>
              <a:t>(L+1)</a:t>
            </a:r>
            <a:r>
              <a:rPr b="0" lang="en-CA" sz="26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 digit is 1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Example Family Tree Structu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659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663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667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671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675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679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683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8204040" y="3695760"/>
            <a:ext cx="739800" cy="674640"/>
            <a:chOff x="8204040" y="3695760"/>
            <a:chExt cx="739800" cy="674640"/>
          </a:xfrm>
        </p:grpSpPr>
        <p:sp>
          <p:nvSpPr>
            <p:cNvPr id="687" name=""/>
            <p:cNvSpPr/>
            <p:nvPr/>
          </p:nvSpPr>
          <p:spPr>
            <a:xfrm>
              <a:off x="8223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23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04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691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2571840" y="2552760"/>
            <a:ext cx="739800" cy="674640"/>
            <a:chOff x="2571840" y="2552760"/>
            <a:chExt cx="739800" cy="674640"/>
          </a:xfrm>
        </p:grpSpPr>
        <p:sp>
          <p:nvSpPr>
            <p:cNvPr id="695" name=""/>
            <p:cNvSpPr/>
            <p:nvPr/>
          </p:nvSpPr>
          <p:spPr>
            <a:xfrm>
              <a:off x="25909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909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5718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699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443480" y="2552760"/>
            <a:ext cx="739800" cy="674640"/>
            <a:chOff x="4443480" y="2552760"/>
            <a:chExt cx="739800" cy="674640"/>
          </a:xfrm>
        </p:grpSpPr>
        <p:sp>
          <p:nvSpPr>
            <p:cNvPr id="703" name=""/>
            <p:cNvSpPr/>
            <p:nvPr/>
          </p:nvSpPr>
          <p:spPr>
            <a:xfrm>
              <a:off x="44625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625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34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707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711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715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8204040" y="2552760"/>
            <a:ext cx="739800" cy="674640"/>
            <a:chOff x="8204040" y="2552760"/>
            <a:chExt cx="739800" cy="674640"/>
          </a:xfrm>
        </p:grpSpPr>
        <p:sp>
          <p:nvSpPr>
            <p:cNvPr id="719" name=""/>
            <p:cNvSpPr/>
            <p:nvPr/>
          </p:nvSpPr>
          <p:spPr>
            <a:xfrm>
              <a:off x="8223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223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204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723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727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731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4443480" y="1320840"/>
            <a:ext cx="739800" cy="674640"/>
            <a:chOff x="4443480" y="1320840"/>
            <a:chExt cx="739800" cy="674640"/>
          </a:xfrm>
        </p:grpSpPr>
        <p:sp>
          <p:nvSpPr>
            <p:cNvPr id="735" name=""/>
            <p:cNvSpPr/>
            <p:nvPr/>
          </p:nvSpPr>
          <p:spPr>
            <a:xfrm>
              <a:off x="44625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625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4434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739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743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747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8204040" y="1320840"/>
            <a:ext cx="739800" cy="674640"/>
            <a:chOff x="8204040" y="1320840"/>
            <a:chExt cx="739800" cy="674640"/>
          </a:xfrm>
        </p:grpSpPr>
        <p:sp>
          <p:nvSpPr>
            <p:cNvPr id="751" name=""/>
            <p:cNvSpPr/>
            <p:nvPr/>
          </p:nvSpPr>
          <p:spPr>
            <a:xfrm>
              <a:off x="8223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223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204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Level </a:t>
            </a:r>
            <a:r>
              <a:rPr b="0" i="1" lang="en-CA" sz="26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 nodes have a “</a:t>
            </a:r>
            <a:r>
              <a:rPr b="0" lang="en-CA" sz="2600" spc="-1" strike="noStrike">
                <a:solidFill>
                  <a:srgbClr val="00cc00"/>
                </a:solidFill>
                <a:latin typeface="Arial"/>
              </a:rPr>
              <a:t>first child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pointer to the nearest node at level </a:t>
            </a:r>
            <a:r>
              <a:rPr b="0" i="1" lang="en-CA" sz="2600" spc="-1" strike="noStrike">
                <a:solidFill>
                  <a:srgbClr val="003366"/>
                </a:solidFill>
                <a:latin typeface="Arial"/>
              </a:rPr>
              <a:t>L-1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 whose numeric ID matches in </a:t>
            </a:r>
            <a:r>
              <a:rPr b="0" i="1" lang="en-CA" sz="2600" spc="-1" strike="noStrike">
                <a:solidFill>
                  <a:srgbClr val="003366"/>
                </a:solidFill>
                <a:latin typeface="Arial"/>
              </a:rPr>
              <a:t>L-1 bits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Example Family Tree Structu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822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826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830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834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838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842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846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8204040" y="3695760"/>
            <a:ext cx="739800" cy="674640"/>
            <a:chOff x="8204040" y="3695760"/>
            <a:chExt cx="739800" cy="674640"/>
          </a:xfrm>
        </p:grpSpPr>
        <p:sp>
          <p:nvSpPr>
            <p:cNvPr id="850" name=""/>
            <p:cNvSpPr/>
            <p:nvPr/>
          </p:nvSpPr>
          <p:spPr>
            <a:xfrm>
              <a:off x="8223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223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204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854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2571840" y="2552760"/>
            <a:ext cx="739800" cy="674640"/>
            <a:chOff x="2571840" y="2552760"/>
            <a:chExt cx="739800" cy="674640"/>
          </a:xfrm>
        </p:grpSpPr>
        <p:sp>
          <p:nvSpPr>
            <p:cNvPr id="858" name=""/>
            <p:cNvSpPr/>
            <p:nvPr/>
          </p:nvSpPr>
          <p:spPr>
            <a:xfrm>
              <a:off x="25909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5909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5718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862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443480" y="2552760"/>
            <a:ext cx="739800" cy="674640"/>
            <a:chOff x="4443480" y="2552760"/>
            <a:chExt cx="739800" cy="674640"/>
          </a:xfrm>
        </p:grpSpPr>
        <p:sp>
          <p:nvSpPr>
            <p:cNvPr id="866" name=""/>
            <p:cNvSpPr/>
            <p:nvPr/>
          </p:nvSpPr>
          <p:spPr>
            <a:xfrm>
              <a:off x="44625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625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434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870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874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878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8204040" y="2552760"/>
            <a:ext cx="739800" cy="674640"/>
            <a:chOff x="8204040" y="2552760"/>
            <a:chExt cx="739800" cy="674640"/>
          </a:xfrm>
        </p:grpSpPr>
        <p:sp>
          <p:nvSpPr>
            <p:cNvPr id="882" name=""/>
            <p:cNvSpPr/>
            <p:nvPr/>
          </p:nvSpPr>
          <p:spPr>
            <a:xfrm>
              <a:off x="8223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23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204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886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890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894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443480" y="1320840"/>
            <a:ext cx="739800" cy="674640"/>
            <a:chOff x="4443480" y="1320840"/>
            <a:chExt cx="739800" cy="674640"/>
          </a:xfrm>
        </p:grpSpPr>
        <p:sp>
          <p:nvSpPr>
            <p:cNvPr id="898" name=""/>
            <p:cNvSpPr/>
            <p:nvPr/>
          </p:nvSpPr>
          <p:spPr>
            <a:xfrm>
              <a:off x="44625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625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4434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902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906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910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8204040" y="1320840"/>
            <a:ext cx="739800" cy="674640"/>
            <a:chOff x="8204040" y="1320840"/>
            <a:chExt cx="739800" cy="674640"/>
          </a:xfrm>
        </p:grpSpPr>
        <p:sp>
          <p:nvSpPr>
            <p:cNvPr id="914" name=""/>
            <p:cNvSpPr/>
            <p:nvPr/>
          </p:nvSpPr>
          <p:spPr>
            <a:xfrm>
              <a:off x="8223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223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204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1635120" y="4838760"/>
            <a:ext cx="739800" cy="674640"/>
            <a:chOff x="1635120" y="4838760"/>
            <a:chExt cx="739800" cy="674640"/>
          </a:xfrm>
        </p:grpSpPr>
        <p:sp>
          <p:nvSpPr>
            <p:cNvPr id="961" name=""/>
            <p:cNvSpPr/>
            <p:nvPr/>
          </p:nvSpPr>
          <p:spPr>
            <a:xfrm>
              <a:off x="165420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5420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63512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571840" y="4838760"/>
            <a:ext cx="739800" cy="674640"/>
            <a:chOff x="2571840" y="4838760"/>
            <a:chExt cx="739800" cy="674640"/>
          </a:xfrm>
        </p:grpSpPr>
        <p:sp>
          <p:nvSpPr>
            <p:cNvPr id="965" name=""/>
            <p:cNvSpPr/>
            <p:nvPr/>
          </p:nvSpPr>
          <p:spPr>
            <a:xfrm>
              <a:off x="25909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909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718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506760" y="4838760"/>
            <a:ext cx="739800" cy="674640"/>
            <a:chOff x="3506760" y="4838760"/>
            <a:chExt cx="739800" cy="674640"/>
          </a:xfrm>
        </p:grpSpPr>
        <p:sp>
          <p:nvSpPr>
            <p:cNvPr id="969" name=""/>
            <p:cNvSpPr/>
            <p:nvPr/>
          </p:nvSpPr>
          <p:spPr>
            <a:xfrm>
              <a:off x="352584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52584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0676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973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977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981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985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635120" y="5857920"/>
            <a:ext cx="739800" cy="674640"/>
            <a:chOff x="1635120" y="5857920"/>
            <a:chExt cx="739800" cy="674640"/>
          </a:xfrm>
        </p:grpSpPr>
        <p:sp>
          <p:nvSpPr>
            <p:cNvPr id="997" name=""/>
            <p:cNvSpPr/>
            <p:nvPr/>
          </p:nvSpPr>
          <p:spPr>
            <a:xfrm>
              <a:off x="1654200" y="585792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54200" y="586764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35120" y="621036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571840" y="5857920"/>
            <a:ext cx="739800" cy="674640"/>
            <a:chOff x="2571840" y="5857920"/>
            <a:chExt cx="739800" cy="674640"/>
          </a:xfrm>
        </p:grpSpPr>
        <p:sp>
          <p:nvSpPr>
            <p:cNvPr id="1001" name=""/>
            <p:cNvSpPr/>
            <p:nvPr/>
          </p:nvSpPr>
          <p:spPr>
            <a:xfrm>
              <a:off x="2590920" y="585792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90920" y="586764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71840" y="621036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506760" y="5857920"/>
            <a:ext cx="739800" cy="674640"/>
            <a:chOff x="3506760" y="5857920"/>
            <a:chExt cx="739800" cy="674640"/>
          </a:xfrm>
        </p:grpSpPr>
        <p:sp>
          <p:nvSpPr>
            <p:cNvPr id="1005" name=""/>
            <p:cNvSpPr/>
            <p:nvPr/>
          </p:nvSpPr>
          <p:spPr>
            <a:xfrm>
              <a:off x="3525840" y="585792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5840" y="586764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06760" y="621036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4443480" y="5857920"/>
            <a:ext cx="739800" cy="674640"/>
            <a:chOff x="4443480" y="5857920"/>
            <a:chExt cx="739800" cy="674640"/>
          </a:xfrm>
        </p:grpSpPr>
        <p:sp>
          <p:nvSpPr>
            <p:cNvPr id="1009" name=""/>
            <p:cNvSpPr/>
            <p:nvPr/>
          </p:nvSpPr>
          <p:spPr>
            <a:xfrm>
              <a:off x="4462560" y="585792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462560" y="586764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43480" y="621036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5396040" y="5857920"/>
            <a:ext cx="739800" cy="674640"/>
            <a:chOff x="5396040" y="5857920"/>
            <a:chExt cx="739800" cy="674640"/>
          </a:xfrm>
        </p:grpSpPr>
        <p:sp>
          <p:nvSpPr>
            <p:cNvPr id="1013" name=""/>
            <p:cNvSpPr/>
            <p:nvPr/>
          </p:nvSpPr>
          <p:spPr>
            <a:xfrm>
              <a:off x="5415120" y="585792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15120" y="586764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96040" y="621036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332400" y="5857920"/>
            <a:ext cx="739800" cy="674640"/>
            <a:chOff x="6332400" y="5857920"/>
            <a:chExt cx="739800" cy="674640"/>
          </a:xfrm>
        </p:grpSpPr>
        <p:sp>
          <p:nvSpPr>
            <p:cNvPr id="1017" name=""/>
            <p:cNvSpPr/>
            <p:nvPr/>
          </p:nvSpPr>
          <p:spPr>
            <a:xfrm>
              <a:off x="6351480" y="585792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51480" y="586764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332400" y="621036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7267680" y="5857920"/>
            <a:ext cx="739800" cy="674640"/>
            <a:chOff x="7267680" y="5857920"/>
            <a:chExt cx="739800" cy="674640"/>
          </a:xfrm>
        </p:grpSpPr>
        <p:sp>
          <p:nvSpPr>
            <p:cNvPr id="1021" name=""/>
            <p:cNvSpPr/>
            <p:nvPr/>
          </p:nvSpPr>
          <p:spPr>
            <a:xfrm>
              <a:off x="7286760" y="585792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86760" y="586764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67680" y="621036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44280" y="586728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eric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30280" y="620064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60880" y="620064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200480" y="620064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140440" y="620064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3000" y="620064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020000" y="620064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959600" y="6200640"/>
            <a:ext cx="4111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(by name I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Use parent pointers to get to a high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Move horizontally until nearly step past dest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Move down one level with ‘first child’ poi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Until level &lt;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Search in name ID list for destin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Work: O(log N) in expectation, O(log</a:t>
            </a:r>
            <a:r>
              <a:rPr b="0" lang="en-CA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 N) wh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ame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1058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1062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1066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1070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1074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1078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1082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1086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2571840" y="2552760"/>
            <a:ext cx="739800" cy="674640"/>
            <a:chOff x="2571840" y="2552760"/>
            <a:chExt cx="739800" cy="674640"/>
          </a:xfrm>
        </p:grpSpPr>
        <p:sp>
          <p:nvSpPr>
            <p:cNvPr id="1090" name=""/>
            <p:cNvSpPr/>
            <p:nvPr/>
          </p:nvSpPr>
          <p:spPr>
            <a:xfrm>
              <a:off x="25909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909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718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1094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4443480" y="2552760"/>
            <a:ext cx="739800" cy="674640"/>
            <a:chOff x="4443480" y="2552760"/>
            <a:chExt cx="739800" cy="674640"/>
          </a:xfrm>
        </p:grpSpPr>
        <p:sp>
          <p:nvSpPr>
            <p:cNvPr id="1098" name=""/>
            <p:cNvSpPr/>
            <p:nvPr/>
          </p:nvSpPr>
          <p:spPr>
            <a:xfrm>
              <a:off x="44625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625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4434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1102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1106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1110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8204040" y="2552760"/>
            <a:ext cx="739800" cy="674640"/>
            <a:chOff x="8204040" y="2552760"/>
            <a:chExt cx="739800" cy="674640"/>
          </a:xfrm>
        </p:grpSpPr>
        <p:sp>
          <p:nvSpPr>
            <p:cNvPr id="1114" name=""/>
            <p:cNvSpPr/>
            <p:nvPr/>
          </p:nvSpPr>
          <p:spPr>
            <a:xfrm>
              <a:off x="8223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223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204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1118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1122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1126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4443480" y="1320840"/>
            <a:ext cx="739800" cy="674640"/>
            <a:chOff x="4443480" y="1320840"/>
            <a:chExt cx="739800" cy="674640"/>
          </a:xfrm>
        </p:grpSpPr>
        <p:sp>
          <p:nvSpPr>
            <p:cNvPr id="1130" name=""/>
            <p:cNvSpPr/>
            <p:nvPr/>
          </p:nvSpPr>
          <p:spPr>
            <a:xfrm>
              <a:off x="44625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4625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4434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1134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1138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1142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8204040" y="1320840"/>
            <a:ext cx="739800" cy="674640"/>
            <a:chOff x="8204040" y="1320840"/>
            <a:chExt cx="739800" cy="674640"/>
          </a:xfrm>
        </p:grpSpPr>
        <p:sp>
          <p:nvSpPr>
            <p:cNvPr id="1146" name=""/>
            <p:cNvSpPr/>
            <p:nvPr/>
          </p:nvSpPr>
          <p:spPr>
            <a:xfrm>
              <a:off x="8223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223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04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1635120" y="4838760"/>
            <a:ext cx="739800" cy="674640"/>
            <a:chOff x="1635120" y="4838760"/>
            <a:chExt cx="739800" cy="674640"/>
          </a:xfrm>
        </p:grpSpPr>
        <p:sp>
          <p:nvSpPr>
            <p:cNvPr id="1193" name=""/>
            <p:cNvSpPr/>
            <p:nvPr/>
          </p:nvSpPr>
          <p:spPr>
            <a:xfrm>
              <a:off x="165420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5420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3512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2571840" y="4838760"/>
            <a:ext cx="739800" cy="674640"/>
            <a:chOff x="2571840" y="4838760"/>
            <a:chExt cx="739800" cy="674640"/>
          </a:xfrm>
        </p:grpSpPr>
        <p:sp>
          <p:nvSpPr>
            <p:cNvPr id="1197" name=""/>
            <p:cNvSpPr/>
            <p:nvPr/>
          </p:nvSpPr>
          <p:spPr>
            <a:xfrm>
              <a:off x="25909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909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5718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3506760" y="4838760"/>
            <a:ext cx="739800" cy="674640"/>
            <a:chOff x="3506760" y="4838760"/>
            <a:chExt cx="739800" cy="674640"/>
          </a:xfrm>
        </p:grpSpPr>
        <p:sp>
          <p:nvSpPr>
            <p:cNvPr id="1201" name=""/>
            <p:cNvSpPr/>
            <p:nvPr/>
          </p:nvSpPr>
          <p:spPr>
            <a:xfrm>
              <a:off x="352584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52584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50676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1205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1209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1213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1217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2231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2231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2040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ame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1256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1260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1264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1268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1272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1276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1280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1284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2571840" y="2552760"/>
            <a:ext cx="739800" cy="674640"/>
            <a:chOff x="2571840" y="2552760"/>
            <a:chExt cx="739800" cy="674640"/>
          </a:xfrm>
        </p:grpSpPr>
        <p:sp>
          <p:nvSpPr>
            <p:cNvPr id="1288" name=""/>
            <p:cNvSpPr/>
            <p:nvPr/>
          </p:nvSpPr>
          <p:spPr>
            <a:xfrm>
              <a:off x="25909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5909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5718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1292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443480" y="2552760"/>
            <a:ext cx="739800" cy="674640"/>
            <a:chOff x="4443480" y="2552760"/>
            <a:chExt cx="739800" cy="674640"/>
          </a:xfrm>
        </p:grpSpPr>
        <p:sp>
          <p:nvSpPr>
            <p:cNvPr id="1296" name=""/>
            <p:cNvSpPr/>
            <p:nvPr/>
          </p:nvSpPr>
          <p:spPr>
            <a:xfrm>
              <a:off x="44625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4625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4434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1300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1304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1308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1312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1316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1320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443480" y="1320840"/>
            <a:ext cx="739800" cy="674640"/>
            <a:chOff x="4443480" y="1320840"/>
            <a:chExt cx="739800" cy="674640"/>
          </a:xfrm>
        </p:grpSpPr>
        <p:sp>
          <p:nvSpPr>
            <p:cNvPr id="1324" name=""/>
            <p:cNvSpPr/>
            <p:nvPr/>
          </p:nvSpPr>
          <p:spPr>
            <a:xfrm>
              <a:off x="44625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625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4434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1328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1332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1336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8204040" y="1320840"/>
            <a:ext cx="739800" cy="674640"/>
            <a:chOff x="8204040" y="1320840"/>
            <a:chExt cx="739800" cy="674640"/>
          </a:xfrm>
        </p:grpSpPr>
        <p:sp>
          <p:nvSpPr>
            <p:cNvPr id="1340" name=""/>
            <p:cNvSpPr/>
            <p:nvPr/>
          </p:nvSpPr>
          <p:spPr>
            <a:xfrm>
              <a:off x="8223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223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204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1635120" y="4838760"/>
            <a:ext cx="739800" cy="674640"/>
            <a:chOff x="1635120" y="4838760"/>
            <a:chExt cx="739800" cy="674640"/>
          </a:xfrm>
        </p:grpSpPr>
        <p:sp>
          <p:nvSpPr>
            <p:cNvPr id="1387" name=""/>
            <p:cNvSpPr/>
            <p:nvPr/>
          </p:nvSpPr>
          <p:spPr>
            <a:xfrm>
              <a:off x="165420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65420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63512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2571840" y="4838760"/>
            <a:ext cx="739800" cy="674640"/>
            <a:chOff x="2571840" y="4838760"/>
            <a:chExt cx="739800" cy="674640"/>
          </a:xfrm>
        </p:grpSpPr>
        <p:sp>
          <p:nvSpPr>
            <p:cNvPr id="1391" name=""/>
            <p:cNvSpPr/>
            <p:nvPr/>
          </p:nvSpPr>
          <p:spPr>
            <a:xfrm>
              <a:off x="25909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5909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5718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3506760" y="4838760"/>
            <a:ext cx="739800" cy="674640"/>
            <a:chOff x="3506760" y="4838760"/>
            <a:chExt cx="739800" cy="674640"/>
          </a:xfrm>
        </p:grpSpPr>
        <p:sp>
          <p:nvSpPr>
            <p:cNvPr id="1395" name=""/>
            <p:cNvSpPr/>
            <p:nvPr/>
          </p:nvSpPr>
          <p:spPr>
            <a:xfrm>
              <a:off x="352584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52584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50676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1399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1403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1407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1411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82231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82231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82040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2231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82231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2040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ame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1453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1457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1461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1465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1469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1473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1477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1481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2571840" y="2552760"/>
            <a:ext cx="739800" cy="674640"/>
            <a:chOff x="2571840" y="2552760"/>
            <a:chExt cx="739800" cy="674640"/>
          </a:xfrm>
        </p:grpSpPr>
        <p:sp>
          <p:nvSpPr>
            <p:cNvPr id="1485" name=""/>
            <p:cNvSpPr/>
            <p:nvPr/>
          </p:nvSpPr>
          <p:spPr>
            <a:xfrm>
              <a:off x="25909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5909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5718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1489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4443480" y="2552760"/>
            <a:ext cx="739800" cy="674640"/>
            <a:chOff x="4443480" y="2552760"/>
            <a:chExt cx="739800" cy="674640"/>
          </a:xfrm>
        </p:grpSpPr>
        <p:sp>
          <p:nvSpPr>
            <p:cNvPr id="1493" name=""/>
            <p:cNvSpPr/>
            <p:nvPr/>
          </p:nvSpPr>
          <p:spPr>
            <a:xfrm>
              <a:off x="44625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4625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434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1497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1501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1505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1509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1513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1517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4443480" y="1320840"/>
            <a:ext cx="739800" cy="674640"/>
            <a:chOff x="4443480" y="1320840"/>
            <a:chExt cx="739800" cy="674640"/>
          </a:xfrm>
        </p:grpSpPr>
        <p:sp>
          <p:nvSpPr>
            <p:cNvPr id="1521" name=""/>
            <p:cNvSpPr/>
            <p:nvPr/>
          </p:nvSpPr>
          <p:spPr>
            <a:xfrm>
              <a:off x="44625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4625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4434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1525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1529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1533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1635120" y="4838760"/>
            <a:ext cx="739800" cy="674640"/>
            <a:chOff x="1635120" y="4838760"/>
            <a:chExt cx="739800" cy="674640"/>
          </a:xfrm>
        </p:grpSpPr>
        <p:sp>
          <p:nvSpPr>
            <p:cNvPr id="1580" name=""/>
            <p:cNvSpPr/>
            <p:nvPr/>
          </p:nvSpPr>
          <p:spPr>
            <a:xfrm>
              <a:off x="165420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65420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63512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2571840" y="4838760"/>
            <a:ext cx="739800" cy="674640"/>
            <a:chOff x="2571840" y="4838760"/>
            <a:chExt cx="739800" cy="674640"/>
          </a:xfrm>
        </p:grpSpPr>
        <p:sp>
          <p:nvSpPr>
            <p:cNvPr id="1584" name=""/>
            <p:cNvSpPr/>
            <p:nvPr/>
          </p:nvSpPr>
          <p:spPr>
            <a:xfrm>
              <a:off x="25909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5909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5718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3506760" y="4838760"/>
            <a:ext cx="739800" cy="674640"/>
            <a:chOff x="3506760" y="4838760"/>
            <a:chExt cx="739800" cy="674640"/>
          </a:xfrm>
        </p:grpSpPr>
        <p:sp>
          <p:nvSpPr>
            <p:cNvPr id="1588" name=""/>
            <p:cNvSpPr/>
            <p:nvPr/>
          </p:nvSpPr>
          <p:spPr>
            <a:xfrm>
              <a:off x="352584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52584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50676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1592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1596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1600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1604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82231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82231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82040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82231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82231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82040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822312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822312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820404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ame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1646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1650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1654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1658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61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1662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1666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1670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1674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2571840" y="2552760"/>
            <a:ext cx="739800" cy="674640"/>
            <a:chOff x="2571840" y="2552760"/>
            <a:chExt cx="739800" cy="674640"/>
          </a:xfrm>
        </p:grpSpPr>
        <p:sp>
          <p:nvSpPr>
            <p:cNvPr id="1678" name=""/>
            <p:cNvSpPr/>
            <p:nvPr/>
          </p:nvSpPr>
          <p:spPr>
            <a:xfrm>
              <a:off x="25909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5909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5718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1682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4443480" y="2552760"/>
            <a:ext cx="739800" cy="674640"/>
            <a:chOff x="4443480" y="2552760"/>
            <a:chExt cx="739800" cy="674640"/>
          </a:xfrm>
        </p:grpSpPr>
        <p:sp>
          <p:nvSpPr>
            <p:cNvPr id="1686" name=""/>
            <p:cNvSpPr/>
            <p:nvPr/>
          </p:nvSpPr>
          <p:spPr>
            <a:xfrm>
              <a:off x="44625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625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4434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1690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1694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1698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1702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1706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09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1710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13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1714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1718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1722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66" name=""/>
          <p:cNvGrpSpPr/>
          <p:nvPr/>
        </p:nvGrpSpPr>
        <p:grpSpPr>
          <a:xfrm>
            <a:off x="1635120" y="4838760"/>
            <a:ext cx="739800" cy="674640"/>
            <a:chOff x="1635120" y="4838760"/>
            <a:chExt cx="739800" cy="674640"/>
          </a:xfrm>
        </p:grpSpPr>
        <p:sp>
          <p:nvSpPr>
            <p:cNvPr id="1767" name=""/>
            <p:cNvSpPr/>
            <p:nvPr/>
          </p:nvSpPr>
          <p:spPr>
            <a:xfrm>
              <a:off x="165420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65420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63512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2571840" y="4838760"/>
            <a:ext cx="739800" cy="674640"/>
            <a:chOff x="2571840" y="4838760"/>
            <a:chExt cx="739800" cy="674640"/>
          </a:xfrm>
        </p:grpSpPr>
        <p:sp>
          <p:nvSpPr>
            <p:cNvPr id="1771" name=""/>
            <p:cNvSpPr/>
            <p:nvPr/>
          </p:nvSpPr>
          <p:spPr>
            <a:xfrm>
              <a:off x="25909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5909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5718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3506760" y="4838760"/>
            <a:ext cx="739800" cy="674640"/>
            <a:chOff x="3506760" y="4838760"/>
            <a:chExt cx="739800" cy="674640"/>
          </a:xfrm>
        </p:grpSpPr>
        <p:sp>
          <p:nvSpPr>
            <p:cNvPr id="1775" name=""/>
            <p:cNvSpPr/>
            <p:nvPr/>
          </p:nvSpPr>
          <p:spPr>
            <a:xfrm>
              <a:off x="352584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52584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0676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1779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1783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1787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1791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28440">
            <a:solidFill>
              <a:srgbClr val="3333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82231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82231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82040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82231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82231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2040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22312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22312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20404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46256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46256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44348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ame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40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1841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1845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1849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1853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1857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1861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1865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1869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571840" y="2552760"/>
            <a:ext cx="739800" cy="674640"/>
            <a:chOff x="2571840" y="2552760"/>
            <a:chExt cx="739800" cy="674640"/>
          </a:xfrm>
        </p:grpSpPr>
        <p:sp>
          <p:nvSpPr>
            <p:cNvPr id="1873" name=""/>
            <p:cNvSpPr/>
            <p:nvPr/>
          </p:nvSpPr>
          <p:spPr>
            <a:xfrm>
              <a:off x="25909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5909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5718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1877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1881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1885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1889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1893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1897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1901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1905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1909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1913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1635120" y="4838760"/>
            <a:ext cx="739800" cy="674640"/>
            <a:chOff x="1635120" y="4838760"/>
            <a:chExt cx="739800" cy="674640"/>
          </a:xfrm>
        </p:grpSpPr>
        <p:sp>
          <p:nvSpPr>
            <p:cNvPr id="1956" name=""/>
            <p:cNvSpPr/>
            <p:nvPr/>
          </p:nvSpPr>
          <p:spPr>
            <a:xfrm>
              <a:off x="165420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65420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63512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59" name=""/>
          <p:cNvGrpSpPr/>
          <p:nvPr/>
        </p:nvGrpSpPr>
        <p:grpSpPr>
          <a:xfrm>
            <a:off x="2571840" y="4838760"/>
            <a:ext cx="739800" cy="674640"/>
            <a:chOff x="2571840" y="4838760"/>
            <a:chExt cx="739800" cy="674640"/>
          </a:xfrm>
        </p:grpSpPr>
        <p:sp>
          <p:nvSpPr>
            <p:cNvPr id="1960" name=""/>
            <p:cNvSpPr/>
            <p:nvPr/>
          </p:nvSpPr>
          <p:spPr>
            <a:xfrm>
              <a:off x="25909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909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718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3506760" y="4838760"/>
            <a:ext cx="739800" cy="674640"/>
            <a:chOff x="3506760" y="4838760"/>
            <a:chExt cx="739800" cy="674640"/>
          </a:xfrm>
        </p:grpSpPr>
        <p:sp>
          <p:nvSpPr>
            <p:cNvPr id="1964" name=""/>
            <p:cNvSpPr/>
            <p:nvPr/>
          </p:nvSpPr>
          <p:spPr>
            <a:xfrm>
              <a:off x="352584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2584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50676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1968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1972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1976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1980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83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82231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82231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82040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82231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82231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82040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822312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822312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820404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46256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46256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44348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46256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46256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44348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ame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2034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37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2038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41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2042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2046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2050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2054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2058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2062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65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2066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2070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2074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77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2078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2082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2086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89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2090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2094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2098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2102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05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45" name=""/>
          <p:cNvGrpSpPr/>
          <p:nvPr/>
        </p:nvGrpSpPr>
        <p:grpSpPr>
          <a:xfrm>
            <a:off x="1635120" y="4838760"/>
            <a:ext cx="739800" cy="674640"/>
            <a:chOff x="1635120" y="4838760"/>
            <a:chExt cx="739800" cy="674640"/>
          </a:xfrm>
        </p:grpSpPr>
        <p:sp>
          <p:nvSpPr>
            <p:cNvPr id="2146" name=""/>
            <p:cNvSpPr/>
            <p:nvPr/>
          </p:nvSpPr>
          <p:spPr>
            <a:xfrm>
              <a:off x="165420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65420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63512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49" name=""/>
          <p:cNvGrpSpPr/>
          <p:nvPr/>
        </p:nvGrpSpPr>
        <p:grpSpPr>
          <a:xfrm>
            <a:off x="2571840" y="4838760"/>
            <a:ext cx="739800" cy="674640"/>
            <a:chOff x="2571840" y="4838760"/>
            <a:chExt cx="739800" cy="674640"/>
          </a:xfrm>
        </p:grpSpPr>
        <p:sp>
          <p:nvSpPr>
            <p:cNvPr id="2150" name=""/>
            <p:cNvSpPr/>
            <p:nvPr/>
          </p:nvSpPr>
          <p:spPr>
            <a:xfrm>
              <a:off x="25909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5909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5718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3506760" y="4838760"/>
            <a:ext cx="739800" cy="674640"/>
            <a:chOff x="3506760" y="4838760"/>
            <a:chExt cx="739800" cy="674640"/>
          </a:xfrm>
        </p:grpSpPr>
        <p:sp>
          <p:nvSpPr>
            <p:cNvPr id="2154" name=""/>
            <p:cNvSpPr/>
            <p:nvPr/>
          </p:nvSpPr>
          <p:spPr>
            <a:xfrm>
              <a:off x="352584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52584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50676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57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2158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2162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2166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2170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73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82231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82231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82040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82231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82231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82040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822312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22312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20404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46256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6256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44348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446256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446256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44348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5909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5909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5718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Overlay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Problem: Given a set of computers on the Internet, form a routing structure where each node has pointers to only a few neighb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Applica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Distributed file searching   </a:t>
            </a:r>
            <a:r>
              <a:rPr b="0" i="1" lang="en-CA" sz="2200" spc="-1" strike="noStrike">
                <a:solidFill>
                  <a:srgbClr val="546e88"/>
                </a:solidFill>
                <a:latin typeface="Arial"/>
              </a:rPr>
              <a:t>(Napster, Kazaa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Scalable searching / replication   </a:t>
            </a:r>
            <a:r>
              <a:rPr b="0" i="1" lang="en-CA" sz="2200" spc="-1" strike="noStrike">
                <a:solidFill>
                  <a:srgbClr val="546e88"/>
                </a:solidFill>
                <a:latin typeface="Arial"/>
              </a:rPr>
              <a:t>(DHTs, Overlook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Media streaming   </a:t>
            </a:r>
            <a:r>
              <a:rPr b="0" i="1" lang="en-CA" sz="2200" spc="-1" strike="noStrike">
                <a:solidFill>
                  <a:srgbClr val="546e88"/>
                </a:solidFill>
                <a:latin typeface="Arial"/>
              </a:rPr>
              <a:t>(SplitStream, Zigzag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Multicast   </a:t>
            </a:r>
            <a:r>
              <a:rPr b="0" i="1" lang="en-CA" sz="2200" spc="-1" strike="noStrike">
                <a:solidFill>
                  <a:srgbClr val="546e88"/>
                </a:solidFill>
                <a:latin typeface="Arial"/>
              </a:rPr>
              <a:t>(Narada, Scribe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ame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2227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30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2231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2235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2239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2243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2247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2251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2255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2259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2263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66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2267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2271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2275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78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2279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2283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2287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2291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294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34" name=""/>
          <p:cNvGrpSpPr/>
          <p:nvPr/>
        </p:nvGrpSpPr>
        <p:grpSpPr>
          <a:xfrm>
            <a:off x="1635120" y="4838760"/>
            <a:ext cx="739800" cy="674640"/>
            <a:chOff x="1635120" y="4838760"/>
            <a:chExt cx="739800" cy="674640"/>
          </a:xfrm>
        </p:grpSpPr>
        <p:sp>
          <p:nvSpPr>
            <p:cNvPr id="2335" name=""/>
            <p:cNvSpPr/>
            <p:nvPr/>
          </p:nvSpPr>
          <p:spPr>
            <a:xfrm>
              <a:off x="165420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65420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63512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2571840" y="4838760"/>
            <a:ext cx="739800" cy="674640"/>
            <a:chOff x="2571840" y="4838760"/>
            <a:chExt cx="739800" cy="674640"/>
          </a:xfrm>
        </p:grpSpPr>
        <p:sp>
          <p:nvSpPr>
            <p:cNvPr id="2339" name=""/>
            <p:cNvSpPr/>
            <p:nvPr/>
          </p:nvSpPr>
          <p:spPr>
            <a:xfrm>
              <a:off x="25909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909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5718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3506760" y="4838760"/>
            <a:ext cx="739800" cy="674640"/>
            <a:chOff x="3506760" y="4838760"/>
            <a:chExt cx="739800" cy="674640"/>
          </a:xfrm>
        </p:grpSpPr>
        <p:sp>
          <p:nvSpPr>
            <p:cNvPr id="2343" name=""/>
            <p:cNvSpPr/>
            <p:nvPr/>
          </p:nvSpPr>
          <p:spPr>
            <a:xfrm>
              <a:off x="352584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52584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50676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2347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2351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2355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2359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362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82231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82231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82040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82231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82231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2040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822312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822312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820404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446256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46256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444348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446256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446256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444348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5909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5909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5718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5909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5909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5718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ame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2419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2423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2427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2431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2435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2439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2443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2447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2451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2455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2459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2463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2467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70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2471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2475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78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2479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482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22" name=""/>
          <p:cNvGrpSpPr/>
          <p:nvPr/>
        </p:nvGrpSpPr>
        <p:grpSpPr>
          <a:xfrm>
            <a:off x="1635120" y="4838760"/>
            <a:ext cx="739800" cy="674640"/>
            <a:chOff x="1635120" y="4838760"/>
            <a:chExt cx="739800" cy="674640"/>
          </a:xfrm>
        </p:grpSpPr>
        <p:sp>
          <p:nvSpPr>
            <p:cNvPr id="2523" name=""/>
            <p:cNvSpPr/>
            <p:nvPr/>
          </p:nvSpPr>
          <p:spPr>
            <a:xfrm>
              <a:off x="165420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65420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63512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2571840" y="4838760"/>
            <a:ext cx="739800" cy="674640"/>
            <a:chOff x="2571840" y="4838760"/>
            <a:chExt cx="739800" cy="674640"/>
          </a:xfrm>
        </p:grpSpPr>
        <p:sp>
          <p:nvSpPr>
            <p:cNvPr id="2527" name=""/>
            <p:cNvSpPr/>
            <p:nvPr/>
          </p:nvSpPr>
          <p:spPr>
            <a:xfrm>
              <a:off x="25909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5909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5718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530" name=""/>
          <p:cNvGrpSpPr/>
          <p:nvPr/>
        </p:nvGrpSpPr>
        <p:grpSpPr>
          <a:xfrm>
            <a:off x="3506760" y="4838760"/>
            <a:ext cx="739800" cy="674640"/>
            <a:chOff x="3506760" y="4838760"/>
            <a:chExt cx="739800" cy="674640"/>
          </a:xfrm>
        </p:grpSpPr>
        <p:sp>
          <p:nvSpPr>
            <p:cNvPr id="2531" name=""/>
            <p:cNvSpPr/>
            <p:nvPr/>
          </p:nvSpPr>
          <p:spPr>
            <a:xfrm>
              <a:off x="352584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52584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50676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534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2535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538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2539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542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2543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2547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550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2231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82231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82040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82231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82231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82040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822312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822312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820404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46256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46256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44348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46256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46256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44348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5909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25909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5718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5909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5909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5718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65420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65420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63512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ame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09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2610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2614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17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2618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2622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2626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2630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33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2634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37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2638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2642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45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2646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49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2650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53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2654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57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2658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61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2662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65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2666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69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2670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673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713" name=""/>
          <p:cNvGrpSpPr/>
          <p:nvPr/>
        </p:nvGrpSpPr>
        <p:grpSpPr>
          <a:xfrm>
            <a:off x="1635120" y="4838760"/>
            <a:ext cx="739800" cy="674640"/>
            <a:chOff x="1635120" y="4838760"/>
            <a:chExt cx="739800" cy="674640"/>
          </a:xfrm>
        </p:grpSpPr>
        <p:sp>
          <p:nvSpPr>
            <p:cNvPr id="2714" name=""/>
            <p:cNvSpPr/>
            <p:nvPr/>
          </p:nvSpPr>
          <p:spPr>
            <a:xfrm>
              <a:off x="165420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65420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63512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17" name=""/>
          <p:cNvGrpSpPr/>
          <p:nvPr/>
        </p:nvGrpSpPr>
        <p:grpSpPr>
          <a:xfrm>
            <a:off x="2571840" y="4838760"/>
            <a:ext cx="739800" cy="674640"/>
            <a:chOff x="2571840" y="4838760"/>
            <a:chExt cx="739800" cy="674640"/>
          </a:xfrm>
        </p:grpSpPr>
        <p:sp>
          <p:nvSpPr>
            <p:cNvPr id="2718" name=""/>
            <p:cNvSpPr/>
            <p:nvPr/>
          </p:nvSpPr>
          <p:spPr>
            <a:xfrm>
              <a:off x="25909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5909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5718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21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2722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2726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29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2730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33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2734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37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82231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82231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82040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82231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82231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82040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822312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822312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820404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446256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46256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444348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446256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46256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444348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25909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25909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5718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25909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25909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5718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165420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65420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163512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3525840" y="4838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3525840" y="4848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3506760" y="5191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 flipH="1" flipV="1">
            <a:off x="2196360" y="4368960"/>
            <a:ext cx="1397160" cy="4428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ame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2801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2805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08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2809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12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2813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2817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20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2821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24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2825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2829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32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2833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36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2837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40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2841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2845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48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2849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52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2853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56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2857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60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2861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864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04" name=""/>
          <p:cNvGrpSpPr/>
          <p:nvPr/>
        </p:nvGrpSpPr>
        <p:grpSpPr>
          <a:xfrm>
            <a:off x="1635120" y="4838760"/>
            <a:ext cx="739800" cy="674640"/>
            <a:chOff x="1635120" y="4838760"/>
            <a:chExt cx="739800" cy="674640"/>
          </a:xfrm>
        </p:grpSpPr>
        <p:sp>
          <p:nvSpPr>
            <p:cNvPr id="2905" name=""/>
            <p:cNvSpPr/>
            <p:nvPr/>
          </p:nvSpPr>
          <p:spPr>
            <a:xfrm>
              <a:off x="165420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165420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63512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2909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2913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916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2917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2921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924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82231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82231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2040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82231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82231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82040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822312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822312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820404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446256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46256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444348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46256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446256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444348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25909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25909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25718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25909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25909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25718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65420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165420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163512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525840" y="4838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3525840" y="4848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3506760" y="5191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 flipH="1" flipV="1">
            <a:off x="2196360" y="4368960"/>
            <a:ext cx="1397160" cy="4428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2590920" y="4838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2590920" y="4848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2571840" y="5191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"/>
          <p:cNvSpPr/>
          <p:nvPr/>
        </p:nvSpPr>
        <p:spPr>
          <a:xfrm flipV="1">
            <a:off x="18892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 flipV="1">
            <a:off x="2822400" y="3219120"/>
            <a:ext cx="0" cy="47628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 flipV="1">
            <a:off x="3755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46958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 flipV="1">
            <a:off x="56419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65628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7521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V="1">
            <a:off x="18892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2822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 flipV="1">
            <a:off x="3755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56419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 flipV="1">
            <a:off x="65628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7521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503244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409896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ame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90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2991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994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2995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998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2999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3003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3007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10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3011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3015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3019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22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3023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3027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30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3031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34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3035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3039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42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3043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46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3047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3051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 flipV="1">
            <a:off x="30510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 flipV="1">
            <a:off x="4924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 flipV="1">
            <a:off x="679140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31845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5070600" y="32194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694368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 flipV="1">
            <a:off x="39844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 flipV="1">
            <a:off x="4924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 flipV="1">
            <a:off x="775008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94" name=""/>
          <p:cNvGrpSpPr/>
          <p:nvPr/>
        </p:nvGrpSpPr>
        <p:grpSpPr>
          <a:xfrm>
            <a:off x="4443480" y="4838760"/>
            <a:ext cx="739800" cy="674640"/>
            <a:chOff x="4443480" y="4838760"/>
            <a:chExt cx="739800" cy="674640"/>
          </a:xfrm>
        </p:grpSpPr>
        <p:sp>
          <p:nvSpPr>
            <p:cNvPr id="3095" name=""/>
            <p:cNvSpPr/>
            <p:nvPr/>
          </p:nvSpPr>
          <p:spPr>
            <a:xfrm>
              <a:off x="44625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4625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4434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5396040" y="4838760"/>
            <a:ext cx="739800" cy="674640"/>
            <a:chOff x="5396040" y="4838760"/>
            <a:chExt cx="739800" cy="674640"/>
          </a:xfrm>
        </p:grpSpPr>
        <p:sp>
          <p:nvSpPr>
            <p:cNvPr id="3099" name=""/>
            <p:cNvSpPr/>
            <p:nvPr/>
          </p:nvSpPr>
          <p:spPr>
            <a:xfrm>
              <a:off x="541512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41512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39604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102" name=""/>
          <p:cNvGrpSpPr/>
          <p:nvPr/>
        </p:nvGrpSpPr>
        <p:grpSpPr>
          <a:xfrm>
            <a:off x="6332400" y="4838760"/>
            <a:ext cx="739800" cy="674640"/>
            <a:chOff x="6332400" y="4838760"/>
            <a:chExt cx="739800" cy="674640"/>
          </a:xfrm>
        </p:grpSpPr>
        <p:sp>
          <p:nvSpPr>
            <p:cNvPr id="3103" name=""/>
            <p:cNvSpPr/>
            <p:nvPr/>
          </p:nvSpPr>
          <p:spPr>
            <a:xfrm>
              <a:off x="635148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35148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33240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106" name=""/>
          <p:cNvGrpSpPr/>
          <p:nvPr/>
        </p:nvGrpSpPr>
        <p:grpSpPr>
          <a:xfrm>
            <a:off x="7267680" y="4838760"/>
            <a:ext cx="739800" cy="674640"/>
            <a:chOff x="7267680" y="4838760"/>
            <a:chExt cx="739800" cy="674640"/>
          </a:xfrm>
        </p:grpSpPr>
        <p:sp>
          <p:nvSpPr>
            <p:cNvPr id="3107" name=""/>
            <p:cNvSpPr/>
            <p:nvPr/>
          </p:nvSpPr>
          <p:spPr>
            <a:xfrm>
              <a:off x="7286760" y="4838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286760" y="4848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7267680" y="5191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10" name=""/>
          <p:cNvSpPr/>
          <p:nvPr/>
        </p:nvSpPr>
        <p:spPr>
          <a:xfrm>
            <a:off x="72720" y="4848120"/>
            <a:ext cx="12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me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2330280" y="5181480"/>
            <a:ext cx="26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3260880" y="5181480"/>
            <a:ext cx="260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420048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514044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6093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7020000" y="518148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7959600" y="5181480"/>
            <a:ext cx="37800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0" lang="en-CA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flipV="1">
            <a:off x="4695840" y="1987560"/>
            <a:ext cx="0" cy="56664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 flipV="1">
            <a:off x="8461440" y="32191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 flipV="1">
            <a:off x="8461440" y="1987560"/>
            <a:ext cx="0" cy="56664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V="1">
            <a:off x="8690040" y="3219120"/>
            <a:ext cx="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 flipV="1">
            <a:off x="8690040" y="1987560"/>
            <a:ext cx="0" cy="566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82231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82231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82040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82231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82231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82040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822312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822312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820404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462560" y="13208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4462560" y="133020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4443480" y="16732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46256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46256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444348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2590920" y="2552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2590920" y="2562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2571840" y="2905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259092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259092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257184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1654200" y="3695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1654200" y="3705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635120" y="4048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3525840" y="4838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3525840" y="4848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3506760" y="5191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H="1" flipV="1">
            <a:off x="2196360" y="4368960"/>
            <a:ext cx="1397160" cy="4428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2590920" y="4838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2590920" y="4848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2571840" y="5191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1654200" y="48387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1654200" y="484812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1635120" y="51912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(by numeric I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Can implement a DHT (via consistent hash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Start at level </a:t>
            </a:r>
            <a:r>
              <a:rPr b="0" i="1" lang="en-CA" sz="2800" spc="-1" strike="noStrike">
                <a:solidFill>
                  <a:srgbClr val="003366"/>
                </a:solidFill>
                <a:latin typeface="Arial"/>
              </a:rPr>
              <a:t>L </a:t>
            </a: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i="1" lang="en-CA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CA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 bit of destination is 0, Hop to Mother</a:t>
            </a:r>
            <a:br>
              <a:rPr sz="2400"/>
            </a:b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Else, Hop to Fa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Until </a:t>
            </a:r>
            <a:r>
              <a:rPr b="0" i="1" lang="en-CA" sz="28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 = log 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Search in numeric ID list for destin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Work: O(log N) in expectation, O(log</a:t>
            </a:r>
            <a:r>
              <a:rPr b="0" lang="en-CA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 N) wh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"/>
          <p:cNvSpPr/>
          <p:nvPr/>
        </p:nvSpPr>
        <p:spPr>
          <a:xfrm flipV="1">
            <a:off x="18892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V="1">
            <a:off x="2822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V="1">
            <a:off x="3755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 flipV="1">
            <a:off x="46958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V="1">
            <a:off x="56419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 flipV="1">
            <a:off x="65628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 flipV="1">
            <a:off x="7521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V="1">
            <a:off x="8461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V="1">
            <a:off x="18892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V="1">
            <a:off x="2822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V="1">
            <a:off x="3755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 flipV="1">
            <a:off x="46958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56419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V="1">
            <a:off x="65628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V="1">
            <a:off x="7521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V="1">
            <a:off x="8461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691848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597204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503244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409896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314640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222552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umeric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84" name=""/>
          <p:cNvGrpSpPr/>
          <p:nvPr/>
        </p:nvGrpSpPr>
        <p:grpSpPr>
          <a:xfrm>
            <a:off x="1635120" y="4971960"/>
            <a:ext cx="739800" cy="674640"/>
            <a:chOff x="1635120" y="4971960"/>
            <a:chExt cx="739800" cy="674640"/>
          </a:xfrm>
        </p:grpSpPr>
        <p:sp>
          <p:nvSpPr>
            <p:cNvPr id="3185" name=""/>
            <p:cNvSpPr/>
            <p:nvPr/>
          </p:nvSpPr>
          <p:spPr>
            <a:xfrm>
              <a:off x="165420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65420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63512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188" name=""/>
          <p:cNvGrpSpPr/>
          <p:nvPr/>
        </p:nvGrpSpPr>
        <p:grpSpPr>
          <a:xfrm>
            <a:off x="2571840" y="4971960"/>
            <a:ext cx="739800" cy="674640"/>
            <a:chOff x="2571840" y="4971960"/>
            <a:chExt cx="739800" cy="674640"/>
          </a:xfrm>
        </p:grpSpPr>
        <p:sp>
          <p:nvSpPr>
            <p:cNvPr id="3189" name=""/>
            <p:cNvSpPr/>
            <p:nvPr/>
          </p:nvSpPr>
          <p:spPr>
            <a:xfrm>
              <a:off x="25909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5909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5718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3506760" y="4971960"/>
            <a:ext cx="739800" cy="674640"/>
            <a:chOff x="3506760" y="4971960"/>
            <a:chExt cx="739800" cy="674640"/>
          </a:xfrm>
        </p:grpSpPr>
        <p:sp>
          <p:nvSpPr>
            <p:cNvPr id="3193" name=""/>
            <p:cNvSpPr/>
            <p:nvPr/>
          </p:nvSpPr>
          <p:spPr>
            <a:xfrm>
              <a:off x="352584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52584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50676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cc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196" name=""/>
          <p:cNvGrpSpPr/>
          <p:nvPr/>
        </p:nvGrpSpPr>
        <p:grpSpPr>
          <a:xfrm>
            <a:off x="4443480" y="4971960"/>
            <a:ext cx="739800" cy="674640"/>
            <a:chOff x="4443480" y="4971960"/>
            <a:chExt cx="739800" cy="674640"/>
          </a:xfrm>
        </p:grpSpPr>
        <p:sp>
          <p:nvSpPr>
            <p:cNvPr id="3197" name=""/>
            <p:cNvSpPr/>
            <p:nvPr/>
          </p:nvSpPr>
          <p:spPr>
            <a:xfrm>
              <a:off x="44625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44625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44434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0" name=""/>
          <p:cNvGrpSpPr/>
          <p:nvPr/>
        </p:nvGrpSpPr>
        <p:grpSpPr>
          <a:xfrm>
            <a:off x="5396040" y="4971960"/>
            <a:ext cx="739800" cy="674640"/>
            <a:chOff x="5396040" y="4971960"/>
            <a:chExt cx="739800" cy="674640"/>
          </a:xfrm>
        </p:grpSpPr>
        <p:sp>
          <p:nvSpPr>
            <p:cNvPr id="3201" name=""/>
            <p:cNvSpPr/>
            <p:nvPr/>
          </p:nvSpPr>
          <p:spPr>
            <a:xfrm>
              <a:off x="54151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4151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3960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4" name=""/>
          <p:cNvGrpSpPr/>
          <p:nvPr/>
        </p:nvGrpSpPr>
        <p:grpSpPr>
          <a:xfrm>
            <a:off x="6332400" y="4971960"/>
            <a:ext cx="739800" cy="674640"/>
            <a:chOff x="6332400" y="4971960"/>
            <a:chExt cx="739800" cy="674640"/>
          </a:xfrm>
        </p:grpSpPr>
        <p:sp>
          <p:nvSpPr>
            <p:cNvPr id="3205" name=""/>
            <p:cNvSpPr/>
            <p:nvPr/>
          </p:nvSpPr>
          <p:spPr>
            <a:xfrm>
              <a:off x="635148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35148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33240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8" name=""/>
          <p:cNvGrpSpPr/>
          <p:nvPr/>
        </p:nvGrpSpPr>
        <p:grpSpPr>
          <a:xfrm>
            <a:off x="7267680" y="4971960"/>
            <a:ext cx="739800" cy="674640"/>
            <a:chOff x="7267680" y="4971960"/>
            <a:chExt cx="739800" cy="674640"/>
          </a:xfrm>
        </p:grpSpPr>
        <p:sp>
          <p:nvSpPr>
            <p:cNvPr id="3209" name=""/>
            <p:cNvSpPr/>
            <p:nvPr/>
          </p:nvSpPr>
          <p:spPr>
            <a:xfrm>
              <a:off x="72867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72867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72676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12" name=""/>
          <p:cNvGrpSpPr/>
          <p:nvPr/>
        </p:nvGrpSpPr>
        <p:grpSpPr>
          <a:xfrm>
            <a:off x="1635120" y="3828960"/>
            <a:ext cx="739800" cy="674640"/>
            <a:chOff x="1635120" y="3828960"/>
            <a:chExt cx="739800" cy="674640"/>
          </a:xfrm>
        </p:grpSpPr>
        <p:sp>
          <p:nvSpPr>
            <p:cNvPr id="3213" name=""/>
            <p:cNvSpPr/>
            <p:nvPr/>
          </p:nvSpPr>
          <p:spPr>
            <a:xfrm>
              <a:off x="165420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65420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63512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2571840" y="3828960"/>
            <a:ext cx="739800" cy="674640"/>
            <a:chOff x="2571840" y="3828960"/>
            <a:chExt cx="739800" cy="674640"/>
          </a:xfrm>
        </p:grpSpPr>
        <p:sp>
          <p:nvSpPr>
            <p:cNvPr id="3217" name=""/>
            <p:cNvSpPr/>
            <p:nvPr/>
          </p:nvSpPr>
          <p:spPr>
            <a:xfrm>
              <a:off x="25909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5909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5718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20" name=""/>
          <p:cNvGrpSpPr/>
          <p:nvPr/>
        </p:nvGrpSpPr>
        <p:grpSpPr>
          <a:xfrm>
            <a:off x="3506760" y="3828960"/>
            <a:ext cx="739800" cy="674640"/>
            <a:chOff x="3506760" y="3828960"/>
            <a:chExt cx="739800" cy="674640"/>
          </a:xfrm>
        </p:grpSpPr>
        <p:sp>
          <p:nvSpPr>
            <p:cNvPr id="3221" name=""/>
            <p:cNvSpPr/>
            <p:nvPr/>
          </p:nvSpPr>
          <p:spPr>
            <a:xfrm>
              <a:off x="352584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52584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50676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24" name=""/>
          <p:cNvGrpSpPr/>
          <p:nvPr/>
        </p:nvGrpSpPr>
        <p:grpSpPr>
          <a:xfrm>
            <a:off x="4443480" y="3828960"/>
            <a:ext cx="739800" cy="674640"/>
            <a:chOff x="4443480" y="3828960"/>
            <a:chExt cx="739800" cy="674640"/>
          </a:xfrm>
        </p:grpSpPr>
        <p:sp>
          <p:nvSpPr>
            <p:cNvPr id="3225" name=""/>
            <p:cNvSpPr/>
            <p:nvPr/>
          </p:nvSpPr>
          <p:spPr>
            <a:xfrm>
              <a:off x="446256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46256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44348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5396040" y="3828960"/>
            <a:ext cx="739800" cy="674640"/>
            <a:chOff x="5396040" y="3828960"/>
            <a:chExt cx="739800" cy="674640"/>
          </a:xfrm>
        </p:grpSpPr>
        <p:sp>
          <p:nvSpPr>
            <p:cNvPr id="3229" name=""/>
            <p:cNvSpPr/>
            <p:nvPr/>
          </p:nvSpPr>
          <p:spPr>
            <a:xfrm>
              <a:off x="5415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415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396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32" name=""/>
          <p:cNvGrpSpPr/>
          <p:nvPr/>
        </p:nvGrpSpPr>
        <p:grpSpPr>
          <a:xfrm>
            <a:off x="6332400" y="3828960"/>
            <a:ext cx="739800" cy="674640"/>
            <a:chOff x="6332400" y="3828960"/>
            <a:chExt cx="739800" cy="674640"/>
          </a:xfrm>
        </p:grpSpPr>
        <p:sp>
          <p:nvSpPr>
            <p:cNvPr id="3233" name=""/>
            <p:cNvSpPr/>
            <p:nvPr/>
          </p:nvSpPr>
          <p:spPr>
            <a:xfrm>
              <a:off x="635148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635148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33240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36" name=""/>
          <p:cNvGrpSpPr/>
          <p:nvPr/>
        </p:nvGrpSpPr>
        <p:grpSpPr>
          <a:xfrm>
            <a:off x="7267680" y="3828960"/>
            <a:ext cx="739800" cy="674640"/>
            <a:chOff x="7267680" y="3828960"/>
            <a:chExt cx="739800" cy="674640"/>
          </a:xfrm>
        </p:grpSpPr>
        <p:sp>
          <p:nvSpPr>
            <p:cNvPr id="3237" name=""/>
            <p:cNvSpPr/>
            <p:nvPr/>
          </p:nvSpPr>
          <p:spPr>
            <a:xfrm>
              <a:off x="728676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28676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26768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40" name=""/>
          <p:cNvGrpSpPr/>
          <p:nvPr/>
        </p:nvGrpSpPr>
        <p:grpSpPr>
          <a:xfrm>
            <a:off x="8204040" y="3828960"/>
            <a:ext cx="739800" cy="674640"/>
            <a:chOff x="8204040" y="3828960"/>
            <a:chExt cx="739800" cy="674640"/>
          </a:xfrm>
        </p:grpSpPr>
        <p:sp>
          <p:nvSpPr>
            <p:cNvPr id="3241" name=""/>
            <p:cNvSpPr/>
            <p:nvPr/>
          </p:nvSpPr>
          <p:spPr>
            <a:xfrm>
              <a:off x="8223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223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204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44" name=""/>
          <p:cNvGrpSpPr/>
          <p:nvPr/>
        </p:nvGrpSpPr>
        <p:grpSpPr>
          <a:xfrm>
            <a:off x="1635120" y="2597040"/>
            <a:ext cx="739800" cy="674640"/>
            <a:chOff x="1635120" y="2597040"/>
            <a:chExt cx="739800" cy="674640"/>
          </a:xfrm>
        </p:grpSpPr>
        <p:sp>
          <p:nvSpPr>
            <p:cNvPr id="3245" name=""/>
            <p:cNvSpPr/>
            <p:nvPr/>
          </p:nvSpPr>
          <p:spPr>
            <a:xfrm>
              <a:off x="165420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65420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63512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2571840" y="2597040"/>
            <a:ext cx="739800" cy="674640"/>
            <a:chOff x="2571840" y="2597040"/>
            <a:chExt cx="739800" cy="674640"/>
          </a:xfrm>
        </p:grpSpPr>
        <p:sp>
          <p:nvSpPr>
            <p:cNvPr id="3249" name=""/>
            <p:cNvSpPr/>
            <p:nvPr/>
          </p:nvSpPr>
          <p:spPr>
            <a:xfrm>
              <a:off x="25909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5909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5718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52" name=""/>
          <p:cNvGrpSpPr/>
          <p:nvPr/>
        </p:nvGrpSpPr>
        <p:grpSpPr>
          <a:xfrm>
            <a:off x="3506760" y="2597040"/>
            <a:ext cx="739800" cy="674640"/>
            <a:chOff x="3506760" y="2597040"/>
            <a:chExt cx="739800" cy="674640"/>
          </a:xfrm>
        </p:grpSpPr>
        <p:sp>
          <p:nvSpPr>
            <p:cNvPr id="3253" name=""/>
            <p:cNvSpPr/>
            <p:nvPr/>
          </p:nvSpPr>
          <p:spPr>
            <a:xfrm>
              <a:off x="352584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352584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350676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56" name=""/>
          <p:cNvGrpSpPr/>
          <p:nvPr/>
        </p:nvGrpSpPr>
        <p:grpSpPr>
          <a:xfrm>
            <a:off x="4443480" y="2597040"/>
            <a:ext cx="739800" cy="674640"/>
            <a:chOff x="4443480" y="2597040"/>
            <a:chExt cx="739800" cy="674640"/>
          </a:xfrm>
        </p:grpSpPr>
        <p:sp>
          <p:nvSpPr>
            <p:cNvPr id="3257" name=""/>
            <p:cNvSpPr/>
            <p:nvPr/>
          </p:nvSpPr>
          <p:spPr>
            <a:xfrm>
              <a:off x="446256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446256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444348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60" name=""/>
          <p:cNvGrpSpPr/>
          <p:nvPr/>
        </p:nvGrpSpPr>
        <p:grpSpPr>
          <a:xfrm>
            <a:off x="5396040" y="2597040"/>
            <a:ext cx="739800" cy="674640"/>
            <a:chOff x="5396040" y="2597040"/>
            <a:chExt cx="739800" cy="674640"/>
          </a:xfrm>
        </p:grpSpPr>
        <p:sp>
          <p:nvSpPr>
            <p:cNvPr id="3261" name=""/>
            <p:cNvSpPr/>
            <p:nvPr/>
          </p:nvSpPr>
          <p:spPr>
            <a:xfrm>
              <a:off x="5415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415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396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64" name=""/>
          <p:cNvGrpSpPr/>
          <p:nvPr/>
        </p:nvGrpSpPr>
        <p:grpSpPr>
          <a:xfrm>
            <a:off x="6332400" y="2597040"/>
            <a:ext cx="739800" cy="674640"/>
            <a:chOff x="6332400" y="2597040"/>
            <a:chExt cx="739800" cy="674640"/>
          </a:xfrm>
        </p:grpSpPr>
        <p:sp>
          <p:nvSpPr>
            <p:cNvPr id="3265" name=""/>
            <p:cNvSpPr/>
            <p:nvPr/>
          </p:nvSpPr>
          <p:spPr>
            <a:xfrm>
              <a:off x="635148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635148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633240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68" name=""/>
          <p:cNvGrpSpPr/>
          <p:nvPr/>
        </p:nvGrpSpPr>
        <p:grpSpPr>
          <a:xfrm>
            <a:off x="7267680" y="2597040"/>
            <a:ext cx="739800" cy="674640"/>
            <a:chOff x="7267680" y="2597040"/>
            <a:chExt cx="739800" cy="674640"/>
          </a:xfrm>
        </p:grpSpPr>
        <p:sp>
          <p:nvSpPr>
            <p:cNvPr id="3269" name=""/>
            <p:cNvSpPr/>
            <p:nvPr/>
          </p:nvSpPr>
          <p:spPr>
            <a:xfrm>
              <a:off x="728676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28676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26768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72" name=""/>
          <p:cNvGrpSpPr/>
          <p:nvPr/>
        </p:nvGrpSpPr>
        <p:grpSpPr>
          <a:xfrm>
            <a:off x="8204040" y="2597040"/>
            <a:ext cx="739800" cy="674640"/>
            <a:chOff x="8204040" y="2597040"/>
            <a:chExt cx="739800" cy="674640"/>
          </a:xfrm>
        </p:grpSpPr>
        <p:sp>
          <p:nvSpPr>
            <p:cNvPr id="3273" name=""/>
            <p:cNvSpPr/>
            <p:nvPr/>
          </p:nvSpPr>
          <p:spPr>
            <a:xfrm>
              <a:off x="8223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223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204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86400" y="39877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86400" y="27241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233028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32608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42004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514044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6093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020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795960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flipV="1">
            <a:off x="2117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V="1">
            <a:off x="30510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V="1">
            <a:off x="3984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4924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V="1">
            <a:off x="58705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 flipV="1">
            <a:off x="6791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 flipV="1">
            <a:off x="77500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8690040" y="4495320"/>
            <a:ext cx="0" cy="4762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22701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31845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413712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5070600" y="44956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601020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694368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78897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 flipV="1">
            <a:off x="2117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 flipV="1">
            <a:off x="30510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V="1">
            <a:off x="3984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4924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58705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 flipV="1">
            <a:off x="6791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 flipV="1">
            <a:off x="77500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V="1">
            <a:off x="86900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320920" y="239400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3260880" y="228132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4200480" y="219240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5140440" y="2100240"/>
            <a:ext cx="3060720" cy="59868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320920" y="36432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325440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4194000" y="36432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513396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608004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702000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86400" y="512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01001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8223120" y="49719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8223120" y="498168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8204040" y="53244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23" name=""/>
          <p:cNvGrpSpPr/>
          <p:nvPr/>
        </p:nvGrpSpPr>
        <p:grpSpPr>
          <a:xfrm>
            <a:off x="2563920" y="941400"/>
            <a:ext cx="739800" cy="674640"/>
            <a:chOff x="2563920" y="941400"/>
            <a:chExt cx="739800" cy="674640"/>
          </a:xfrm>
        </p:grpSpPr>
        <p:sp>
          <p:nvSpPr>
            <p:cNvPr id="3324" name=""/>
            <p:cNvSpPr/>
            <p:nvPr/>
          </p:nvSpPr>
          <p:spPr>
            <a:xfrm>
              <a:off x="258300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58300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56392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27" name=""/>
          <p:cNvGrpSpPr/>
          <p:nvPr/>
        </p:nvGrpSpPr>
        <p:grpSpPr>
          <a:xfrm>
            <a:off x="3498840" y="941400"/>
            <a:ext cx="739800" cy="674640"/>
            <a:chOff x="3498840" y="941400"/>
            <a:chExt cx="739800" cy="674640"/>
          </a:xfrm>
        </p:grpSpPr>
        <p:sp>
          <p:nvSpPr>
            <p:cNvPr id="3328" name=""/>
            <p:cNvSpPr/>
            <p:nvPr/>
          </p:nvSpPr>
          <p:spPr>
            <a:xfrm>
              <a:off x="351792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51792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49884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31" name=""/>
          <p:cNvSpPr/>
          <p:nvPr/>
        </p:nvSpPr>
        <p:spPr>
          <a:xfrm>
            <a:off x="44280" y="94284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eric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3251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 flipH="1">
            <a:off x="216540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34" name=""/>
          <p:cNvGrpSpPr/>
          <p:nvPr/>
        </p:nvGrpSpPr>
        <p:grpSpPr>
          <a:xfrm>
            <a:off x="4437000" y="941400"/>
            <a:ext cx="739800" cy="674640"/>
            <a:chOff x="4437000" y="941400"/>
            <a:chExt cx="739800" cy="674640"/>
          </a:xfrm>
        </p:grpSpPr>
        <p:sp>
          <p:nvSpPr>
            <p:cNvPr id="3335" name=""/>
            <p:cNvSpPr/>
            <p:nvPr/>
          </p:nvSpPr>
          <p:spPr>
            <a:xfrm>
              <a:off x="445608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45608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43700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cc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38" name=""/>
          <p:cNvSpPr/>
          <p:nvPr/>
        </p:nvSpPr>
        <p:spPr>
          <a:xfrm>
            <a:off x="419112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39" name=""/>
          <p:cNvGrpSpPr/>
          <p:nvPr/>
        </p:nvGrpSpPr>
        <p:grpSpPr>
          <a:xfrm>
            <a:off x="5376960" y="941400"/>
            <a:ext cx="739800" cy="674640"/>
            <a:chOff x="5376960" y="941400"/>
            <a:chExt cx="739800" cy="674640"/>
          </a:xfrm>
        </p:grpSpPr>
        <p:sp>
          <p:nvSpPr>
            <p:cNvPr id="3340" name=""/>
            <p:cNvSpPr/>
            <p:nvPr/>
          </p:nvSpPr>
          <p:spPr>
            <a:xfrm>
              <a:off x="539604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39604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537696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43" name=""/>
          <p:cNvSpPr/>
          <p:nvPr/>
        </p:nvSpPr>
        <p:spPr>
          <a:xfrm>
            <a:off x="513072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44" name=""/>
          <p:cNvGrpSpPr/>
          <p:nvPr/>
        </p:nvGrpSpPr>
        <p:grpSpPr>
          <a:xfrm>
            <a:off x="6311880" y="941400"/>
            <a:ext cx="739800" cy="674640"/>
            <a:chOff x="6311880" y="941400"/>
            <a:chExt cx="739800" cy="674640"/>
          </a:xfrm>
        </p:grpSpPr>
        <p:sp>
          <p:nvSpPr>
            <p:cNvPr id="3345" name=""/>
            <p:cNvSpPr/>
            <p:nvPr/>
          </p:nvSpPr>
          <p:spPr>
            <a:xfrm>
              <a:off x="633096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633096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31188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48" name=""/>
          <p:cNvSpPr/>
          <p:nvPr/>
        </p:nvSpPr>
        <p:spPr>
          <a:xfrm>
            <a:off x="6076800" y="12812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49" name=""/>
          <p:cNvGrpSpPr/>
          <p:nvPr/>
        </p:nvGrpSpPr>
        <p:grpSpPr>
          <a:xfrm>
            <a:off x="7245360" y="941400"/>
            <a:ext cx="739800" cy="674640"/>
            <a:chOff x="7245360" y="941400"/>
            <a:chExt cx="739800" cy="674640"/>
          </a:xfrm>
        </p:grpSpPr>
        <p:sp>
          <p:nvSpPr>
            <p:cNvPr id="3350" name=""/>
            <p:cNvSpPr/>
            <p:nvPr/>
          </p:nvSpPr>
          <p:spPr>
            <a:xfrm>
              <a:off x="726444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26444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24536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53" name=""/>
          <p:cNvSpPr/>
          <p:nvPr/>
        </p:nvSpPr>
        <p:spPr>
          <a:xfrm>
            <a:off x="7004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794376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"/>
          <p:cNvSpPr/>
          <p:nvPr/>
        </p:nvSpPr>
        <p:spPr>
          <a:xfrm>
            <a:off x="702000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 flipV="1">
            <a:off x="18892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 flipV="1">
            <a:off x="2822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 flipV="1">
            <a:off x="3755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 flipV="1">
            <a:off x="46958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 flipV="1">
            <a:off x="56419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 flipV="1">
            <a:off x="65628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 flipV="1">
            <a:off x="7521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 flipV="1">
            <a:off x="8461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18892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V="1">
            <a:off x="2822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 flipV="1">
            <a:off x="3755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flipV="1">
            <a:off x="46958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 flipV="1">
            <a:off x="56419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 flipV="1">
            <a:off x="65628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 flipV="1">
            <a:off x="7521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 flipV="1">
            <a:off x="8461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691848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597204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503244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409896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314640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222552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umeric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79" name=""/>
          <p:cNvGrpSpPr/>
          <p:nvPr/>
        </p:nvGrpSpPr>
        <p:grpSpPr>
          <a:xfrm>
            <a:off x="1635120" y="4971960"/>
            <a:ext cx="739800" cy="674640"/>
            <a:chOff x="1635120" y="4971960"/>
            <a:chExt cx="739800" cy="674640"/>
          </a:xfrm>
        </p:grpSpPr>
        <p:sp>
          <p:nvSpPr>
            <p:cNvPr id="3380" name=""/>
            <p:cNvSpPr/>
            <p:nvPr/>
          </p:nvSpPr>
          <p:spPr>
            <a:xfrm>
              <a:off x="165420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165420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163512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2571840" y="4971960"/>
            <a:ext cx="739800" cy="674640"/>
            <a:chOff x="2571840" y="4971960"/>
            <a:chExt cx="739800" cy="674640"/>
          </a:xfrm>
        </p:grpSpPr>
        <p:sp>
          <p:nvSpPr>
            <p:cNvPr id="3384" name=""/>
            <p:cNvSpPr/>
            <p:nvPr/>
          </p:nvSpPr>
          <p:spPr>
            <a:xfrm>
              <a:off x="25909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5909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5718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87" name=""/>
          <p:cNvGrpSpPr/>
          <p:nvPr/>
        </p:nvGrpSpPr>
        <p:grpSpPr>
          <a:xfrm>
            <a:off x="3506760" y="4971960"/>
            <a:ext cx="739800" cy="674640"/>
            <a:chOff x="3506760" y="4971960"/>
            <a:chExt cx="739800" cy="674640"/>
          </a:xfrm>
        </p:grpSpPr>
        <p:sp>
          <p:nvSpPr>
            <p:cNvPr id="3388" name=""/>
            <p:cNvSpPr/>
            <p:nvPr/>
          </p:nvSpPr>
          <p:spPr>
            <a:xfrm>
              <a:off x="352584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52584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50676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cc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91" name=""/>
          <p:cNvGrpSpPr/>
          <p:nvPr/>
        </p:nvGrpSpPr>
        <p:grpSpPr>
          <a:xfrm>
            <a:off x="4443480" y="4971960"/>
            <a:ext cx="739800" cy="674640"/>
            <a:chOff x="4443480" y="4971960"/>
            <a:chExt cx="739800" cy="674640"/>
          </a:xfrm>
        </p:grpSpPr>
        <p:sp>
          <p:nvSpPr>
            <p:cNvPr id="3392" name=""/>
            <p:cNvSpPr/>
            <p:nvPr/>
          </p:nvSpPr>
          <p:spPr>
            <a:xfrm>
              <a:off x="44625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4625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4434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95" name=""/>
          <p:cNvGrpSpPr/>
          <p:nvPr/>
        </p:nvGrpSpPr>
        <p:grpSpPr>
          <a:xfrm>
            <a:off x="5396040" y="4971960"/>
            <a:ext cx="739800" cy="674640"/>
            <a:chOff x="5396040" y="4971960"/>
            <a:chExt cx="739800" cy="674640"/>
          </a:xfrm>
        </p:grpSpPr>
        <p:sp>
          <p:nvSpPr>
            <p:cNvPr id="3396" name=""/>
            <p:cNvSpPr/>
            <p:nvPr/>
          </p:nvSpPr>
          <p:spPr>
            <a:xfrm>
              <a:off x="54151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4151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3960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6332400" y="4971960"/>
            <a:ext cx="739800" cy="674640"/>
            <a:chOff x="6332400" y="4971960"/>
            <a:chExt cx="739800" cy="674640"/>
          </a:xfrm>
        </p:grpSpPr>
        <p:sp>
          <p:nvSpPr>
            <p:cNvPr id="3400" name=""/>
            <p:cNvSpPr/>
            <p:nvPr/>
          </p:nvSpPr>
          <p:spPr>
            <a:xfrm>
              <a:off x="635148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35148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633240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03" name=""/>
          <p:cNvGrpSpPr/>
          <p:nvPr/>
        </p:nvGrpSpPr>
        <p:grpSpPr>
          <a:xfrm>
            <a:off x="7267680" y="4971960"/>
            <a:ext cx="739800" cy="674640"/>
            <a:chOff x="7267680" y="4971960"/>
            <a:chExt cx="739800" cy="674640"/>
          </a:xfrm>
        </p:grpSpPr>
        <p:sp>
          <p:nvSpPr>
            <p:cNvPr id="3404" name=""/>
            <p:cNvSpPr/>
            <p:nvPr/>
          </p:nvSpPr>
          <p:spPr>
            <a:xfrm>
              <a:off x="72867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2867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2676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07" name=""/>
          <p:cNvGrpSpPr/>
          <p:nvPr/>
        </p:nvGrpSpPr>
        <p:grpSpPr>
          <a:xfrm>
            <a:off x="1635120" y="3828960"/>
            <a:ext cx="739800" cy="674640"/>
            <a:chOff x="1635120" y="3828960"/>
            <a:chExt cx="739800" cy="674640"/>
          </a:xfrm>
        </p:grpSpPr>
        <p:sp>
          <p:nvSpPr>
            <p:cNvPr id="3408" name=""/>
            <p:cNvSpPr/>
            <p:nvPr/>
          </p:nvSpPr>
          <p:spPr>
            <a:xfrm>
              <a:off x="165420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65420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63512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11" name=""/>
          <p:cNvGrpSpPr/>
          <p:nvPr/>
        </p:nvGrpSpPr>
        <p:grpSpPr>
          <a:xfrm>
            <a:off x="2571840" y="3828960"/>
            <a:ext cx="739800" cy="674640"/>
            <a:chOff x="2571840" y="3828960"/>
            <a:chExt cx="739800" cy="674640"/>
          </a:xfrm>
        </p:grpSpPr>
        <p:sp>
          <p:nvSpPr>
            <p:cNvPr id="3412" name=""/>
            <p:cNvSpPr/>
            <p:nvPr/>
          </p:nvSpPr>
          <p:spPr>
            <a:xfrm>
              <a:off x="25909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5909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5718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15" name=""/>
          <p:cNvGrpSpPr/>
          <p:nvPr/>
        </p:nvGrpSpPr>
        <p:grpSpPr>
          <a:xfrm>
            <a:off x="3506760" y="3828960"/>
            <a:ext cx="739800" cy="674640"/>
            <a:chOff x="3506760" y="3828960"/>
            <a:chExt cx="739800" cy="674640"/>
          </a:xfrm>
        </p:grpSpPr>
        <p:sp>
          <p:nvSpPr>
            <p:cNvPr id="3416" name=""/>
            <p:cNvSpPr/>
            <p:nvPr/>
          </p:nvSpPr>
          <p:spPr>
            <a:xfrm>
              <a:off x="352584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52584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50676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4443480" y="3828960"/>
            <a:ext cx="739800" cy="674640"/>
            <a:chOff x="4443480" y="3828960"/>
            <a:chExt cx="739800" cy="674640"/>
          </a:xfrm>
        </p:grpSpPr>
        <p:sp>
          <p:nvSpPr>
            <p:cNvPr id="3420" name=""/>
            <p:cNvSpPr/>
            <p:nvPr/>
          </p:nvSpPr>
          <p:spPr>
            <a:xfrm>
              <a:off x="446256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46256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44348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23" name=""/>
          <p:cNvGrpSpPr/>
          <p:nvPr/>
        </p:nvGrpSpPr>
        <p:grpSpPr>
          <a:xfrm>
            <a:off x="5396040" y="3828960"/>
            <a:ext cx="739800" cy="674640"/>
            <a:chOff x="5396040" y="3828960"/>
            <a:chExt cx="739800" cy="674640"/>
          </a:xfrm>
        </p:grpSpPr>
        <p:sp>
          <p:nvSpPr>
            <p:cNvPr id="3424" name=""/>
            <p:cNvSpPr/>
            <p:nvPr/>
          </p:nvSpPr>
          <p:spPr>
            <a:xfrm>
              <a:off x="5415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415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396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27" name=""/>
          <p:cNvGrpSpPr/>
          <p:nvPr/>
        </p:nvGrpSpPr>
        <p:grpSpPr>
          <a:xfrm>
            <a:off x="6332400" y="3828960"/>
            <a:ext cx="739800" cy="674640"/>
            <a:chOff x="6332400" y="3828960"/>
            <a:chExt cx="739800" cy="674640"/>
          </a:xfrm>
        </p:grpSpPr>
        <p:sp>
          <p:nvSpPr>
            <p:cNvPr id="3428" name=""/>
            <p:cNvSpPr/>
            <p:nvPr/>
          </p:nvSpPr>
          <p:spPr>
            <a:xfrm>
              <a:off x="635148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35148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33240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31" name=""/>
          <p:cNvGrpSpPr/>
          <p:nvPr/>
        </p:nvGrpSpPr>
        <p:grpSpPr>
          <a:xfrm>
            <a:off x="8204040" y="3828960"/>
            <a:ext cx="739800" cy="674640"/>
            <a:chOff x="8204040" y="3828960"/>
            <a:chExt cx="739800" cy="674640"/>
          </a:xfrm>
        </p:grpSpPr>
        <p:sp>
          <p:nvSpPr>
            <p:cNvPr id="3432" name=""/>
            <p:cNvSpPr/>
            <p:nvPr/>
          </p:nvSpPr>
          <p:spPr>
            <a:xfrm>
              <a:off x="8223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223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8204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35" name=""/>
          <p:cNvGrpSpPr/>
          <p:nvPr/>
        </p:nvGrpSpPr>
        <p:grpSpPr>
          <a:xfrm>
            <a:off x="1635120" y="2597040"/>
            <a:ext cx="739800" cy="674640"/>
            <a:chOff x="1635120" y="2597040"/>
            <a:chExt cx="739800" cy="674640"/>
          </a:xfrm>
        </p:grpSpPr>
        <p:sp>
          <p:nvSpPr>
            <p:cNvPr id="3436" name=""/>
            <p:cNvSpPr/>
            <p:nvPr/>
          </p:nvSpPr>
          <p:spPr>
            <a:xfrm>
              <a:off x="165420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65420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63512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39" name=""/>
          <p:cNvGrpSpPr/>
          <p:nvPr/>
        </p:nvGrpSpPr>
        <p:grpSpPr>
          <a:xfrm>
            <a:off x="2571840" y="2597040"/>
            <a:ext cx="739800" cy="674640"/>
            <a:chOff x="2571840" y="2597040"/>
            <a:chExt cx="739800" cy="674640"/>
          </a:xfrm>
        </p:grpSpPr>
        <p:sp>
          <p:nvSpPr>
            <p:cNvPr id="3440" name=""/>
            <p:cNvSpPr/>
            <p:nvPr/>
          </p:nvSpPr>
          <p:spPr>
            <a:xfrm>
              <a:off x="25909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5909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5718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43" name=""/>
          <p:cNvGrpSpPr/>
          <p:nvPr/>
        </p:nvGrpSpPr>
        <p:grpSpPr>
          <a:xfrm>
            <a:off x="3506760" y="2597040"/>
            <a:ext cx="739800" cy="674640"/>
            <a:chOff x="3506760" y="2597040"/>
            <a:chExt cx="739800" cy="674640"/>
          </a:xfrm>
        </p:grpSpPr>
        <p:sp>
          <p:nvSpPr>
            <p:cNvPr id="3444" name=""/>
            <p:cNvSpPr/>
            <p:nvPr/>
          </p:nvSpPr>
          <p:spPr>
            <a:xfrm>
              <a:off x="352584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52584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350676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47" name=""/>
          <p:cNvGrpSpPr/>
          <p:nvPr/>
        </p:nvGrpSpPr>
        <p:grpSpPr>
          <a:xfrm>
            <a:off x="4443480" y="2597040"/>
            <a:ext cx="739800" cy="674640"/>
            <a:chOff x="4443480" y="2597040"/>
            <a:chExt cx="739800" cy="674640"/>
          </a:xfrm>
        </p:grpSpPr>
        <p:sp>
          <p:nvSpPr>
            <p:cNvPr id="3448" name=""/>
            <p:cNvSpPr/>
            <p:nvPr/>
          </p:nvSpPr>
          <p:spPr>
            <a:xfrm>
              <a:off x="446256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446256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44348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51" name=""/>
          <p:cNvGrpSpPr/>
          <p:nvPr/>
        </p:nvGrpSpPr>
        <p:grpSpPr>
          <a:xfrm>
            <a:off x="5396040" y="2597040"/>
            <a:ext cx="739800" cy="674640"/>
            <a:chOff x="5396040" y="2597040"/>
            <a:chExt cx="739800" cy="674640"/>
          </a:xfrm>
        </p:grpSpPr>
        <p:sp>
          <p:nvSpPr>
            <p:cNvPr id="3452" name=""/>
            <p:cNvSpPr/>
            <p:nvPr/>
          </p:nvSpPr>
          <p:spPr>
            <a:xfrm>
              <a:off x="5415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5415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5396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6332400" y="2597040"/>
            <a:ext cx="739800" cy="674640"/>
            <a:chOff x="6332400" y="2597040"/>
            <a:chExt cx="739800" cy="674640"/>
          </a:xfrm>
        </p:grpSpPr>
        <p:sp>
          <p:nvSpPr>
            <p:cNvPr id="3456" name=""/>
            <p:cNvSpPr/>
            <p:nvPr/>
          </p:nvSpPr>
          <p:spPr>
            <a:xfrm>
              <a:off x="635148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635148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633240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59" name=""/>
          <p:cNvGrpSpPr/>
          <p:nvPr/>
        </p:nvGrpSpPr>
        <p:grpSpPr>
          <a:xfrm>
            <a:off x="7267680" y="2597040"/>
            <a:ext cx="739800" cy="674640"/>
            <a:chOff x="7267680" y="2597040"/>
            <a:chExt cx="739800" cy="674640"/>
          </a:xfrm>
        </p:grpSpPr>
        <p:sp>
          <p:nvSpPr>
            <p:cNvPr id="3460" name=""/>
            <p:cNvSpPr/>
            <p:nvPr/>
          </p:nvSpPr>
          <p:spPr>
            <a:xfrm>
              <a:off x="728676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28676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26768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8204040" y="2597040"/>
            <a:ext cx="739800" cy="674640"/>
            <a:chOff x="8204040" y="2597040"/>
            <a:chExt cx="739800" cy="674640"/>
          </a:xfrm>
        </p:grpSpPr>
        <p:sp>
          <p:nvSpPr>
            <p:cNvPr id="3464" name=""/>
            <p:cNvSpPr/>
            <p:nvPr/>
          </p:nvSpPr>
          <p:spPr>
            <a:xfrm>
              <a:off x="8223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223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8204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467" name=""/>
          <p:cNvSpPr/>
          <p:nvPr/>
        </p:nvSpPr>
        <p:spPr>
          <a:xfrm>
            <a:off x="86400" y="39877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86400" y="27241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233028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32608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42004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514044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6093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7020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795960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 flipV="1">
            <a:off x="2117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 flipV="1">
            <a:off x="30510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 flipV="1">
            <a:off x="3984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 flipV="1">
            <a:off x="4924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 flipV="1">
            <a:off x="58705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 flipV="1">
            <a:off x="6791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 flipV="1">
            <a:off x="77500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 flipV="1">
            <a:off x="8690040" y="4495320"/>
            <a:ext cx="0" cy="4762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22701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31845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413712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5070600" y="44956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601020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694368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78897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 flipV="1">
            <a:off x="2117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 flipV="1">
            <a:off x="30510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 flipV="1">
            <a:off x="3984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 flipV="1">
            <a:off x="4924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 flipV="1">
            <a:off x="58705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6791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 flipV="1">
            <a:off x="7750080" y="3263400"/>
            <a:ext cx="0" cy="567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 flipV="1">
            <a:off x="86900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320920" y="239400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260880" y="228132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4200480" y="219240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5140440" y="2100240"/>
            <a:ext cx="3060720" cy="59868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2320920" y="36432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325440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194000" y="36432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513396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08004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86400" y="512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01001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8223120" y="49719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8223120" y="498168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8204040" y="53244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2563920" y="941400"/>
            <a:ext cx="739800" cy="674640"/>
            <a:chOff x="2563920" y="941400"/>
            <a:chExt cx="739800" cy="674640"/>
          </a:xfrm>
        </p:grpSpPr>
        <p:sp>
          <p:nvSpPr>
            <p:cNvPr id="3514" name=""/>
            <p:cNvSpPr/>
            <p:nvPr/>
          </p:nvSpPr>
          <p:spPr>
            <a:xfrm>
              <a:off x="258300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58300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56392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17" name=""/>
          <p:cNvGrpSpPr/>
          <p:nvPr/>
        </p:nvGrpSpPr>
        <p:grpSpPr>
          <a:xfrm>
            <a:off x="3498840" y="941400"/>
            <a:ext cx="739800" cy="674640"/>
            <a:chOff x="3498840" y="941400"/>
            <a:chExt cx="739800" cy="674640"/>
          </a:xfrm>
        </p:grpSpPr>
        <p:sp>
          <p:nvSpPr>
            <p:cNvPr id="3518" name=""/>
            <p:cNvSpPr/>
            <p:nvPr/>
          </p:nvSpPr>
          <p:spPr>
            <a:xfrm>
              <a:off x="351792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351792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349884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21" name=""/>
          <p:cNvSpPr/>
          <p:nvPr/>
        </p:nvSpPr>
        <p:spPr>
          <a:xfrm>
            <a:off x="44280" y="94284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eric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3251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H="1">
            <a:off x="216540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24" name=""/>
          <p:cNvGrpSpPr/>
          <p:nvPr/>
        </p:nvGrpSpPr>
        <p:grpSpPr>
          <a:xfrm>
            <a:off x="4437000" y="941400"/>
            <a:ext cx="739800" cy="674640"/>
            <a:chOff x="4437000" y="941400"/>
            <a:chExt cx="739800" cy="674640"/>
          </a:xfrm>
        </p:grpSpPr>
        <p:sp>
          <p:nvSpPr>
            <p:cNvPr id="3525" name=""/>
            <p:cNvSpPr/>
            <p:nvPr/>
          </p:nvSpPr>
          <p:spPr>
            <a:xfrm>
              <a:off x="445608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445608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43700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cc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28" name=""/>
          <p:cNvSpPr/>
          <p:nvPr/>
        </p:nvSpPr>
        <p:spPr>
          <a:xfrm>
            <a:off x="419112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29" name=""/>
          <p:cNvGrpSpPr/>
          <p:nvPr/>
        </p:nvGrpSpPr>
        <p:grpSpPr>
          <a:xfrm>
            <a:off x="5376960" y="941400"/>
            <a:ext cx="739800" cy="674640"/>
            <a:chOff x="5376960" y="941400"/>
            <a:chExt cx="739800" cy="674640"/>
          </a:xfrm>
        </p:grpSpPr>
        <p:sp>
          <p:nvSpPr>
            <p:cNvPr id="3530" name=""/>
            <p:cNvSpPr/>
            <p:nvPr/>
          </p:nvSpPr>
          <p:spPr>
            <a:xfrm>
              <a:off x="539604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539604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537696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33" name=""/>
          <p:cNvSpPr/>
          <p:nvPr/>
        </p:nvSpPr>
        <p:spPr>
          <a:xfrm>
            <a:off x="513072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4" name=""/>
          <p:cNvGrpSpPr/>
          <p:nvPr/>
        </p:nvGrpSpPr>
        <p:grpSpPr>
          <a:xfrm>
            <a:off x="6311880" y="941400"/>
            <a:ext cx="739800" cy="674640"/>
            <a:chOff x="6311880" y="941400"/>
            <a:chExt cx="739800" cy="674640"/>
          </a:xfrm>
        </p:grpSpPr>
        <p:sp>
          <p:nvSpPr>
            <p:cNvPr id="3535" name=""/>
            <p:cNvSpPr/>
            <p:nvPr/>
          </p:nvSpPr>
          <p:spPr>
            <a:xfrm>
              <a:off x="633096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33096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1188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38" name=""/>
          <p:cNvSpPr/>
          <p:nvPr/>
        </p:nvSpPr>
        <p:spPr>
          <a:xfrm>
            <a:off x="6076800" y="12812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9" name=""/>
          <p:cNvGrpSpPr/>
          <p:nvPr/>
        </p:nvGrpSpPr>
        <p:grpSpPr>
          <a:xfrm>
            <a:off x="7245360" y="941400"/>
            <a:ext cx="739800" cy="674640"/>
            <a:chOff x="7245360" y="941400"/>
            <a:chExt cx="739800" cy="674640"/>
          </a:xfrm>
        </p:grpSpPr>
        <p:sp>
          <p:nvSpPr>
            <p:cNvPr id="3540" name=""/>
            <p:cNvSpPr/>
            <p:nvPr/>
          </p:nvSpPr>
          <p:spPr>
            <a:xfrm>
              <a:off x="726444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6444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24536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43" name=""/>
          <p:cNvSpPr/>
          <p:nvPr/>
        </p:nvSpPr>
        <p:spPr>
          <a:xfrm>
            <a:off x="7004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794376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7286760" y="38289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7286760" y="383868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7267680" y="41814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"/>
          <p:cNvSpPr/>
          <p:nvPr/>
        </p:nvSpPr>
        <p:spPr>
          <a:xfrm>
            <a:off x="702000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18892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 flipV="1">
            <a:off x="2822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V="1">
            <a:off x="3755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 flipV="1">
            <a:off x="46958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56419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 flipV="1">
            <a:off x="65628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 flipV="1">
            <a:off x="7521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 flipV="1">
            <a:off x="8461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 flipV="1">
            <a:off x="18892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 flipV="1">
            <a:off x="2822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 flipV="1">
            <a:off x="3755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 flipV="1">
            <a:off x="46958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V="1">
            <a:off x="56419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 flipV="1">
            <a:off x="65628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 flipV="1">
            <a:off x="7521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 flipV="1">
            <a:off x="8461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91848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597204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503244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409896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314640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222552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umeric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72" name=""/>
          <p:cNvGrpSpPr/>
          <p:nvPr/>
        </p:nvGrpSpPr>
        <p:grpSpPr>
          <a:xfrm>
            <a:off x="1635120" y="4971960"/>
            <a:ext cx="739800" cy="674640"/>
            <a:chOff x="1635120" y="4971960"/>
            <a:chExt cx="739800" cy="674640"/>
          </a:xfrm>
        </p:grpSpPr>
        <p:sp>
          <p:nvSpPr>
            <p:cNvPr id="3573" name=""/>
            <p:cNvSpPr/>
            <p:nvPr/>
          </p:nvSpPr>
          <p:spPr>
            <a:xfrm>
              <a:off x="165420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65420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63512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76" name=""/>
          <p:cNvGrpSpPr/>
          <p:nvPr/>
        </p:nvGrpSpPr>
        <p:grpSpPr>
          <a:xfrm>
            <a:off x="2571840" y="4971960"/>
            <a:ext cx="739800" cy="674640"/>
            <a:chOff x="2571840" y="4971960"/>
            <a:chExt cx="739800" cy="674640"/>
          </a:xfrm>
        </p:grpSpPr>
        <p:sp>
          <p:nvSpPr>
            <p:cNvPr id="3577" name=""/>
            <p:cNvSpPr/>
            <p:nvPr/>
          </p:nvSpPr>
          <p:spPr>
            <a:xfrm>
              <a:off x="25909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5909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25718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80" name=""/>
          <p:cNvGrpSpPr/>
          <p:nvPr/>
        </p:nvGrpSpPr>
        <p:grpSpPr>
          <a:xfrm>
            <a:off x="3506760" y="4971960"/>
            <a:ext cx="739800" cy="674640"/>
            <a:chOff x="3506760" y="4971960"/>
            <a:chExt cx="739800" cy="674640"/>
          </a:xfrm>
        </p:grpSpPr>
        <p:sp>
          <p:nvSpPr>
            <p:cNvPr id="3581" name=""/>
            <p:cNvSpPr/>
            <p:nvPr/>
          </p:nvSpPr>
          <p:spPr>
            <a:xfrm>
              <a:off x="352584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52584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50676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cc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84" name=""/>
          <p:cNvGrpSpPr/>
          <p:nvPr/>
        </p:nvGrpSpPr>
        <p:grpSpPr>
          <a:xfrm>
            <a:off x="4443480" y="4971960"/>
            <a:ext cx="739800" cy="674640"/>
            <a:chOff x="4443480" y="4971960"/>
            <a:chExt cx="739800" cy="674640"/>
          </a:xfrm>
        </p:grpSpPr>
        <p:sp>
          <p:nvSpPr>
            <p:cNvPr id="3585" name=""/>
            <p:cNvSpPr/>
            <p:nvPr/>
          </p:nvSpPr>
          <p:spPr>
            <a:xfrm>
              <a:off x="44625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4625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44434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88" name=""/>
          <p:cNvGrpSpPr/>
          <p:nvPr/>
        </p:nvGrpSpPr>
        <p:grpSpPr>
          <a:xfrm>
            <a:off x="5396040" y="4971960"/>
            <a:ext cx="739800" cy="674640"/>
            <a:chOff x="5396040" y="4971960"/>
            <a:chExt cx="739800" cy="674640"/>
          </a:xfrm>
        </p:grpSpPr>
        <p:sp>
          <p:nvSpPr>
            <p:cNvPr id="3589" name=""/>
            <p:cNvSpPr/>
            <p:nvPr/>
          </p:nvSpPr>
          <p:spPr>
            <a:xfrm>
              <a:off x="54151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4151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53960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92" name=""/>
          <p:cNvGrpSpPr/>
          <p:nvPr/>
        </p:nvGrpSpPr>
        <p:grpSpPr>
          <a:xfrm>
            <a:off x="6332400" y="4971960"/>
            <a:ext cx="739800" cy="674640"/>
            <a:chOff x="6332400" y="4971960"/>
            <a:chExt cx="739800" cy="674640"/>
          </a:xfrm>
        </p:grpSpPr>
        <p:sp>
          <p:nvSpPr>
            <p:cNvPr id="3593" name=""/>
            <p:cNvSpPr/>
            <p:nvPr/>
          </p:nvSpPr>
          <p:spPr>
            <a:xfrm>
              <a:off x="635148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35148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33240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96" name=""/>
          <p:cNvGrpSpPr/>
          <p:nvPr/>
        </p:nvGrpSpPr>
        <p:grpSpPr>
          <a:xfrm>
            <a:off x="7267680" y="4971960"/>
            <a:ext cx="739800" cy="674640"/>
            <a:chOff x="7267680" y="4971960"/>
            <a:chExt cx="739800" cy="674640"/>
          </a:xfrm>
        </p:grpSpPr>
        <p:sp>
          <p:nvSpPr>
            <p:cNvPr id="3597" name=""/>
            <p:cNvSpPr/>
            <p:nvPr/>
          </p:nvSpPr>
          <p:spPr>
            <a:xfrm>
              <a:off x="72867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2867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2676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00" name=""/>
          <p:cNvGrpSpPr/>
          <p:nvPr/>
        </p:nvGrpSpPr>
        <p:grpSpPr>
          <a:xfrm>
            <a:off x="1635120" y="3828960"/>
            <a:ext cx="739800" cy="674640"/>
            <a:chOff x="1635120" y="3828960"/>
            <a:chExt cx="739800" cy="674640"/>
          </a:xfrm>
        </p:grpSpPr>
        <p:sp>
          <p:nvSpPr>
            <p:cNvPr id="3601" name=""/>
            <p:cNvSpPr/>
            <p:nvPr/>
          </p:nvSpPr>
          <p:spPr>
            <a:xfrm>
              <a:off x="165420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65420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63512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04" name=""/>
          <p:cNvGrpSpPr/>
          <p:nvPr/>
        </p:nvGrpSpPr>
        <p:grpSpPr>
          <a:xfrm>
            <a:off x="2571840" y="3828960"/>
            <a:ext cx="739800" cy="674640"/>
            <a:chOff x="2571840" y="3828960"/>
            <a:chExt cx="739800" cy="674640"/>
          </a:xfrm>
        </p:grpSpPr>
        <p:sp>
          <p:nvSpPr>
            <p:cNvPr id="3605" name=""/>
            <p:cNvSpPr/>
            <p:nvPr/>
          </p:nvSpPr>
          <p:spPr>
            <a:xfrm>
              <a:off x="25909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5909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5718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08" name=""/>
          <p:cNvGrpSpPr/>
          <p:nvPr/>
        </p:nvGrpSpPr>
        <p:grpSpPr>
          <a:xfrm>
            <a:off x="3506760" y="3828960"/>
            <a:ext cx="739800" cy="674640"/>
            <a:chOff x="3506760" y="3828960"/>
            <a:chExt cx="739800" cy="674640"/>
          </a:xfrm>
        </p:grpSpPr>
        <p:sp>
          <p:nvSpPr>
            <p:cNvPr id="3609" name=""/>
            <p:cNvSpPr/>
            <p:nvPr/>
          </p:nvSpPr>
          <p:spPr>
            <a:xfrm>
              <a:off x="352584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52584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50676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12" name=""/>
          <p:cNvGrpSpPr/>
          <p:nvPr/>
        </p:nvGrpSpPr>
        <p:grpSpPr>
          <a:xfrm>
            <a:off x="4443480" y="3828960"/>
            <a:ext cx="739800" cy="674640"/>
            <a:chOff x="4443480" y="3828960"/>
            <a:chExt cx="739800" cy="674640"/>
          </a:xfrm>
        </p:grpSpPr>
        <p:sp>
          <p:nvSpPr>
            <p:cNvPr id="3613" name=""/>
            <p:cNvSpPr/>
            <p:nvPr/>
          </p:nvSpPr>
          <p:spPr>
            <a:xfrm>
              <a:off x="446256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46256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444348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16" name=""/>
          <p:cNvGrpSpPr/>
          <p:nvPr/>
        </p:nvGrpSpPr>
        <p:grpSpPr>
          <a:xfrm>
            <a:off x="5396040" y="3828960"/>
            <a:ext cx="739800" cy="674640"/>
            <a:chOff x="5396040" y="3828960"/>
            <a:chExt cx="739800" cy="674640"/>
          </a:xfrm>
        </p:grpSpPr>
        <p:sp>
          <p:nvSpPr>
            <p:cNvPr id="3617" name=""/>
            <p:cNvSpPr/>
            <p:nvPr/>
          </p:nvSpPr>
          <p:spPr>
            <a:xfrm>
              <a:off x="5415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5415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5396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20" name=""/>
          <p:cNvGrpSpPr/>
          <p:nvPr/>
        </p:nvGrpSpPr>
        <p:grpSpPr>
          <a:xfrm>
            <a:off x="6332400" y="3828960"/>
            <a:ext cx="739800" cy="674640"/>
            <a:chOff x="6332400" y="3828960"/>
            <a:chExt cx="739800" cy="674640"/>
          </a:xfrm>
        </p:grpSpPr>
        <p:sp>
          <p:nvSpPr>
            <p:cNvPr id="3621" name=""/>
            <p:cNvSpPr/>
            <p:nvPr/>
          </p:nvSpPr>
          <p:spPr>
            <a:xfrm>
              <a:off x="635148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35148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33240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24" name=""/>
          <p:cNvGrpSpPr/>
          <p:nvPr/>
        </p:nvGrpSpPr>
        <p:grpSpPr>
          <a:xfrm>
            <a:off x="8204040" y="3828960"/>
            <a:ext cx="739800" cy="674640"/>
            <a:chOff x="8204040" y="3828960"/>
            <a:chExt cx="739800" cy="674640"/>
          </a:xfrm>
        </p:grpSpPr>
        <p:sp>
          <p:nvSpPr>
            <p:cNvPr id="3625" name=""/>
            <p:cNvSpPr/>
            <p:nvPr/>
          </p:nvSpPr>
          <p:spPr>
            <a:xfrm>
              <a:off x="8223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8223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8204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1635120" y="2597040"/>
            <a:ext cx="739800" cy="674640"/>
            <a:chOff x="1635120" y="2597040"/>
            <a:chExt cx="739800" cy="674640"/>
          </a:xfrm>
        </p:grpSpPr>
        <p:sp>
          <p:nvSpPr>
            <p:cNvPr id="3629" name=""/>
            <p:cNvSpPr/>
            <p:nvPr/>
          </p:nvSpPr>
          <p:spPr>
            <a:xfrm>
              <a:off x="165420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165420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163512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32" name=""/>
          <p:cNvGrpSpPr/>
          <p:nvPr/>
        </p:nvGrpSpPr>
        <p:grpSpPr>
          <a:xfrm>
            <a:off x="2571840" y="2597040"/>
            <a:ext cx="739800" cy="674640"/>
            <a:chOff x="2571840" y="2597040"/>
            <a:chExt cx="739800" cy="674640"/>
          </a:xfrm>
        </p:grpSpPr>
        <p:sp>
          <p:nvSpPr>
            <p:cNvPr id="3633" name=""/>
            <p:cNvSpPr/>
            <p:nvPr/>
          </p:nvSpPr>
          <p:spPr>
            <a:xfrm>
              <a:off x="25909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5909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5718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36" name=""/>
          <p:cNvGrpSpPr/>
          <p:nvPr/>
        </p:nvGrpSpPr>
        <p:grpSpPr>
          <a:xfrm>
            <a:off x="3506760" y="2597040"/>
            <a:ext cx="739800" cy="674640"/>
            <a:chOff x="3506760" y="2597040"/>
            <a:chExt cx="739800" cy="674640"/>
          </a:xfrm>
        </p:grpSpPr>
        <p:sp>
          <p:nvSpPr>
            <p:cNvPr id="3637" name=""/>
            <p:cNvSpPr/>
            <p:nvPr/>
          </p:nvSpPr>
          <p:spPr>
            <a:xfrm>
              <a:off x="352584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52584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50676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40" name=""/>
          <p:cNvGrpSpPr/>
          <p:nvPr/>
        </p:nvGrpSpPr>
        <p:grpSpPr>
          <a:xfrm>
            <a:off x="4443480" y="2597040"/>
            <a:ext cx="739800" cy="674640"/>
            <a:chOff x="4443480" y="2597040"/>
            <a:chExt cx="739800" cy="674640"/>
          </a:xfrm>
        </p:grpSpPr>
        <p:sp>
          <p:nvSpPr>
            <p:cNvPr id="3641" name=""/>
            <p:cNvSpPr/>
            <p:nvPr/>
          </p:nvSpPr>
          <p:spPr>
            <a:xfrm>
              <a:off x="446256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46256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44348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44" name=""/>
          <p:cNvGrpSpPr/>
          <p:nvPr/>
        </p:nvGrpSpPr>
        <p:grpSpPr>
          <a:xfrm>
            <a:off x="5396040" y="2597040"/>
            <a:ext cx="739800" cy="674640"/>
            <a:chOff x="5396040" y="2597040"/>
            <a:chExt cx="739800" cy="674640"/>
          </a:xfrm>
        </p:grpSpPr>
        <p:sp>
          <p:nvSpPr>
            <p:cNvPr id="3645" name=""/>
            <p:cNvSpPr/>
            <p:nvPr/>
          </p:nvSpPr>
          <p:spPr>
            <a:xfrm>
              <a:off x="5415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415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396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48" name=""/>
          <p:cNvGrpSpPr/>
          <p:nvPr/>
        </p:nvGrpSpPr>
        <p:grpSpPr>
          <a:xfrm>
            <a:off x="6332400" y="2597040"/>
            <a:ext cx="739800" cy="674640"/>
            <a:chOff x="6332400" y="2597040"/>
            <a:chExt cx="739800" cy="674640"/>
          </a:xfrm>
        </p:grpSpPr>
        <p:sp>
          <p:nvSpPr>
            <p:cNvPr id="3649" name=""/>
            <p:cNvSpPr/>
            <p:nvPr/>
          </p:nvSpPr>
          <p:spPr>
            <a:xfrm>
              <a:off x="635148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35148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33240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2" name=""/>
          <p:cNvGrpSpPr/>
          <p:nvPr/>
        </p:nvGrpSpPr>
        <p:grpSpPr>
          <a:xfrm>
            <a:off x="8204040" y="2597040"/>
            <a:ext cx="739800" cy="674640"/>
            <a:chOff x="8204040" y="2597040"/>
            <a:chExt cx="739800" cy="674640"/>
          </a:xfrm>
        </p:grpSpPr>
        <p:sp>
          <p:nvSpPr>
            <p:cNvPr id="3653" name=""/>
            <p:cNvSpPr/>
            <p:nvPr/>
          </p:nvSpPr>
          <p:spPr>
            <a:xfrm>
              <a:off x="8223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8223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8204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656" name=""/>
          <p:cNvSpPr/>
          <p:nvPr/>
        </p:nvSpPr>
        <p:spPr>
          <a:xfrm>
            <a:off x="86400" y="39877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86400" y="27241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233028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32608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42004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514044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6093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7020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795960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2117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V="1">
            <a:off x="30510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3984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4924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58705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 flipV="1">
            <a:off x="6791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V="1">
            <a:off x="77500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8690040" y="4495320"/>
            <a:ext cx="0" cy="4762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22701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31845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413712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5070600" y="44956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601020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694368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78897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 flipV="1">
            <a:off x="2117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 flipV="1">
            <a:off x="30510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 flipV="1">
            <a:off x="3984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 flipV="1">
            <a:off x="4924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 flipV="1">
            <a:off x="58705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 flipV="1">
            <a:off x="6791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 flipV="1">
            <a:off x="7750080" y="3263400"/>
            <a:ext cx="0" cy="567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V="1">
            <a:off x="86900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2320920" y="239400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3260880" y="228132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4200480" y="219240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5140440" y="2100240"/>
            <a:ext cx="3060720" cy="59868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2320920" y="36432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25440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4194000" y="36432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513396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608004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86400" y="512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01001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8223120" y="49719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8223120" y="498168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8204040" y="53244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02" name=""/>
          <p:cNvGrpSpPr/>
          <p:nvPr/>
        </p:nvGrpSpPr>
        <p:grpSpPr>
          <a:xfrm>
            <a:off x="2563920" y="941400"/>
            <a:ext cx="739800" cy="674640"/>
            <a:chOff x="2563920" y="941400"/>
            <a:chExt cx="739800" cy="674640"/>
          </a:xfrm>
        </p:grpSpPr>
        <p:sp>
          <p:nvSpPr>
            <p:cNvPr id="3703" name=""/>
            <p:cNvSpPr/>
            <p:nvPr/>
          </p:nvSpPr>
          <p:spPr>
            <a:xfrm>
              <a:off x="258300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58300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256392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3498840" y="941400"/>
            <a:ext cx="739800" cy="674640"/>
            <a:chOff x="3498840" y="941400"/>
            <a:chExt cx="739800" cy="674640"/>
          </a:xfrm>
        </p:grpSpPr>
        <p:sp>
          <p:nvSpPr>
            <p:cNvPr id="3707" name=""/>
            <p:cNvSpPr/>
            <p:nvPr/>
          </p:nvSpPr>
          <p:spPr>
            <a:xfrm>
              <a:off x="351792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51792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49884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10" name=""/>
          <p:cNvSpPr/>
          <p:nvPr/>
        </p:nvSpPr>
        <p:spPr>
          <a:xfrm>
            <a:off x="44280" y="94284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eric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3251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216540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13" name=""/>
          <p:cNvGrpSpPr/>
          <p:nvPr/>
        </p:nvGrpSpPr>
        <p:grpSpPr>
          <a:xfrm>
            <a:off x="4437000" y="941400"/>
            <a:ext cx="739800" cy="674640"/>
            <a:chOff x="4437000" y="941400"/>
            <a:chExt cx="739800" cy="674640"/>
          </a:xfrm>
        </p:grpSpPr>
        <p:sp>
          <p:nvSpPr>
            <p:cNvPr id="3714" name=""/>
            <p:cNvSpPr/>
            <p:nvPr/>
          </p:nvSpPr>
          <p:spPr>
            <a:xfrm>
              <a:off x="445608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445608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43700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cc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17" name=""/>
          <p:cNvSpPr/>
          <p:nvPr/>
        </p:nvSpPr>
        <p:spPr>
          <a:xfrm>
            <a:off x="419112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18" name=""/>
          <p:cNvGrpSpPr/>
          <p:nvPr/>
        </p:nvGrpSpPr>
        <p:grpSpPr>
          <a:xfrm>
            <a:off x="5376960" y="941400"/>
            <a:ext cx="739800" cy="674640"/>
            <a:chOff x="5376960" y="941400"/>
            <a:chExt cx="739800" cy="674640"/>
          </a:xfrm>
        </p:grpSpPr>
        <p:sp>
          <p:nvSpPr>
            <p:cNvPr id="3719" name=""/>
            <p:cNvSpPr/>
            <p:nvPr/>
          </p:nvSpPr>
          <p:spPr>
            <a:xfrm>
              <a:off x="539604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39604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37696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22" name=""/>
          <p:cNvSpPr/>
          <p:nvPr/>
        </p:nvSpPr>
        <p:spPr>
          <a:xfrm>
            <a:off x="513072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6076800" y="12812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24" name=""/>
          <p:cNvGrpSpPr/>
          <p:nvPr/>
        </p:nvGrpSpPr>
        <p:grpSpPr>
          <a:xfrm>
            <a:off x="7245360" y="941400"/>
            <a:ext cx="739800" cy="674640"/>
            <a:chOff x="7245360" y="941400"/>
            <a:chExt cx="739800" cy="674640"/>
          </a:xfrm>
        </p:grpSpPr>
        <p:sp>
          <p:nvSpPr>
            <p:cNvPr id="3725" name=""/>
            <p:cNvSpPr/>
            <p:nvPr/>
          </p:nvSpPr>
          <p:spPr>
            <a:xfrm>
              <a:off x="726444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726444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724536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28" name=""/>
          <p:cNvSpPr/>
          <p:nvPr/>
        </p:nvSpPr>
        <p:spPr>
          <a:xfrm>
            <a:off x="7004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794376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7286760" y="38289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7286760" y="383868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7267680" y="41814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7286760" y="25970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7286760" y="2606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7267680" y="29494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6330960" y="941400"/>
            <a:ext cx="669960" cy="6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6330960" y="950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6311880" y="129384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"/>
          <p:cNvSpPr/>
          <p:nvPr/>
        </p:nvSpPr>
        <p:spPr>
          <a:xfrm>
            <a:off x="702000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 flipV="1">
            <a:off x="18892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 flipV="1">
            <a:off x="2822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 flipV="1">
            <a:off x="3755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 flipV="1">
            <a:off x="46958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 flipV="1">
            <a:off x="56419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 flipV="1">
            <a:off x="65628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 flipV="1">
            <a:off x="7521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 flipV="1">
            <a:off x="8461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 flipV="1">
            <a:off x="18892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 flipV="1">
            <a:off x="2822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 flipV="1">
            <a:off x="3755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 flipV="1">
            <a:off x="46958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 flipV="1">
            <a:off x="56419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 flipV="1">
            <a:off x="65628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 flipV="1">
            <a:off x="7521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 flipV="1">
            <a:off x="8461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691848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597204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503244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409896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314640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222552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umeric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63" name=""/>
          <p:cNvGrpSpPr/>
          <p:nvPr/>
        </p:nvGrpSpPr>
        <p:grpSpPr>
          <a:xfrm>
            <a:off x="1635120" y="4971960"/>
            <a:ext cx="739800" cy="674640"/>
            <a:chOff x="1635120" y="4971960"/>
            <a:chExt cx="739800" cy="674640"/>
          </a:xfrm>
        </p:grpSpPr>
        <p:sp>
          <p:nvSpPr>
            <p:cNvPr id="3764" name=""/>
            <p:cNvSpPr/>
            <p:nvPr/>
          </p:nvSpPr>
          <p:spPr>
            <a:xfrm>
              <a:off x="165420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65420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63512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2571840" y="4971960"/>
            <a:ext cx="739800" cy="674640"/>
            <a:chOff x="2571840" y="4971960"/>
            <a:chExt cx="739800" cy="674640"/>
          </a:xfrm>
        </p:grpSpPr>
        <p:sp>
          <p:nvSpPr>
            <p:cNvPr id="3768" name=""/>
            <p:cNvSpPr/>
            <p:nvPr/>
          </p:nvSpPr>
          <p:spPr>
            <a:xfrm>
              <a:off x="25909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5909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5718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71" name=""/>
          <p:cNvGrpSpPr/>
          <p:nvPr/>
        </p:nvGrpSpPr>
        <p:grpSpPr>
          <a:xfrm>
            <a:off x="3506760" y="4971960"/>
            <a:ext cx="739800" cy="674640"/>
            <a:chOff x="3506760" y="4971960"/>
            <a:chExt cx="739800" cy="674640"/>
          </a:xfrm>
        </p:grpSpPr>
        <p:sp>
          <p:nvSpPr>
            <p:cNvPr id="3772" name=""/>
            <p:cNvSpPr/>
            <p:nvPr/>
          </p:nvSpPr>
          <p:spPr>
            <a:xfrm>
              <a:off x="352584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352584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350676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cc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75" name=""/>
          <p:cNvGrpSpPr/>
          <p:nvPr/>
        </p:nvGrpSpPr>
        <p:grpSpPr>
          <a:xfrm>
            <a:off x="4443480" y="4971960"/>
            <a:ext cx="739800" cy="674640"/>
            <a:chOff x="4443480" y="4971960"/>
            <a:chExt cx="739800" cy="674640"/>
          </a:xfrm>
        </p:grpSpPr>
        <p:sp>
          <p:nvSpPr>
            <p:cNvPr id="3776" name=""/>
            <p:cNvSpPr/>
            <p:nvPr/>
          </p:nvSpPr>
          <p:spPr>
            <a:xfrm>
              <a:off x="44625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4625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4434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5396040" y="4971960"/>
            <a:ext cx="739800" cy="674640"/>
            <a:chOff x="5396040" y="4971960"/>
            <a:chExt cx="739800" cy="674640"/>
          </a:xfrm>
        </p:grpSpPr>
        <p:sp>
          <p:nvSpPr>
            <p:cNvPr id="3780" name=""/>
            <p:cNvSpPr/>
            <p:nvPr/>
          </p:nvSpPr>
          <p:spPr>
            <a:xfrm>
              <a:off x="54151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4151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3960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83" name=""/>
          <p:cNvGrpSpPr/>
          <p:nvPr/>
        </p:nvGrpSpPr>
        <p:grpSpPr>
          <a:xfrm>
            <a:off x="6332400" y="4971960"/>
            <a:ext cx="739800" cy="674640"/>
            <a:chOff x="6332400" y="4971960"/>
            <a:chExt cx="739800" cy="674640"/>
          </a:xfrm>
        </p:grpSpPr>
        <p:sp>
          <p:nvSpPr>
            <p:cNvPr id="3784" name=""/>
            <p:cNvSpPr/>
            <p:nvPr/>
          </p:nvSpPr>
          <p:spPr>
            <a:xfrm>
              <a:off x="635148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635148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633240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87" name=""/>
          <p:cNvGrpSpPr/>
          <p:nvPr/>
        </p:nvGrpSpPr>
        <p:grpSpPr>
          <a:xfrm>
            <a:off x="7267680" y="4971960"/>
            <a:ext cx="739800" cy="674640"/>
            <a:chOff x="7267680" y="4971960"/>
            <a:chExt cx="739800" cy="674640"/>
          </a:xfrm>
        </p:grpSpPr>
        <p:sp>
          <p:nvSpPr>
            <p:cNvPr id="3788" name=""/>
            <p:cNvSpPr/>
            <p:nvPr/>
          </p:nvSpPr>
          <p:spPr>
            <a:xfrm>
              <a:off x="72867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72867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2676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91" name=""/>
          <p:cNvGrpSpPr/>
          <p:nvPr/>
        </p:nvGrpSpPr>
        <p:grpSpPr>
          <a:xfrm>
            <a:off x="1635120" y="3828960"/>
            <a:ext cx="739800" cy="674640"/>
            <a:chOff x="1635120" y="3828960"/>
            <a:chExt cx="739800" cy="674640"/>
          </a:xfrm>
        </p:grpSpPr>
        <p:sp>
          <p:nvSpPr>
            <p:cNvPr id="3792" name=""/>
            <p:cNvSpPr/>
            <p:nvPr/>
          </p:nvSpPr>
          <p:spPr>
            <a:xfrm>
              <a:off x="165420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65420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63512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95" name=""/>
          <p:cNvGrpSpPr/>
          <p:nvPr/>
        </p:nvGrpSpPr>
        <p:grpSpPr>
          <a:xfrm>
            <a:off x="2571840" y="3828960"/>
            <a:ext cx="739800" cy="674640"/>
            <a:chOff x="2571840" y="3828960"/>
            <a:chExt cx="739800" cy="674640"/>
          </a:xfrm>
        </p:grpSpPr>
        <p:sp>
          <p:nvSpPr>
            <p:cNvPr id="3796" name=""/>
            <p:cNvSpPr/>
            <p:nvPr/>
          </p:nvSpPr>
          <p:spPr>
            <a:xfrm>
              <a:off x="25909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5909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5718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3506760" y="3828960"/>
            <a:ext cx="739800" cy="674640"/>
            <a:chOff x="3506760" y="3828960"/>
            <a:chExt cx="739800" cy="674640"/>
          </a:xfrm>
        </p:grpSpPr>
        <p:sp>
          <p:nvSpPr>
            <p:cNvPr id="3800" name=""/>
            <p:cNvSpPr/>
            <p:nvPr/>
          </p:nvSpPr>
          <p:spPr>
            <a:xfrm>
              <a:off x="352584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352584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50676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4443480" y="3828960"/>
            <a:ext cx="739800" cy="674640"/>
            <a:chOff x="4443480" y="3828960"/>
            <a:chExt cx="739800" cy="674640"/>
          </a:xfrm>
        </p:grpSpPr>
        <p:sp>
          <p:nvSpPr>
            <p:cNvPr id="3804" name=""/>
            <p:cNvSpPr/>
            <p:nvPr/>
          </p:nvSpPr>
          <p:spPr>
            <a:xfrm>
              <a:off x="446256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446256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444348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07" name=""/>
          <p:cNvGrpSpPr/>
          <p:nvPr/>
        </p:nvGrpSpPr>
        <p:grpSpPr>
          <a:xfrm>
            <a:off x="5396040" y="3828960"/>
            <a:ext cx="739800" cy="674640"/>
            <a:chOff x="5396040" y="3828960"/>
            <a:chExt cx="739800" cy="674640"/>
          </a:xfrm>
        </p:grpSpPr>
        <p:sp>
          <p:nvSpPr>
            <p:cNvPr id="3808" name=""/>
            <p:cNvSpPr/>
            <p:nvPr/>
          </p:nvSpPr>
          <p:spPr>
            <a:xfrm>
              <a:off x="5415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415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396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11" name=""/>
          <p:cNvGrpSpPr/>
          <p:nvPr/>
        </p:nvGrpSpPr>
        <p:grpSpPr>
          <a:xfrm>
            <a:off x="6332400" y="3828960"/>
            <a:ext cx="739800" cy="674640"/>
            <a:chOff x="6332400" y="3828960"/>
            <a:chExt cx="739800" cy="674640"/>
          </a:xfrm>
        </p:grpSpPr>
        <p:sp>
          <p:nvSpPr>
            <p:cNvPr id="3812" name=""/>
            <p:cNvSpPr/>
            <p:nvPr/>
          </p:nvSpPr>
          <p:spPr>
            <a:xfrm>
              <a:off x="635148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635148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633240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8204040" y="3828960"/>
            <a:ext cx="739800" cy="674640"/>
            <a:chOff x="8204040" y="3828960"/>
            <a:chExt cx="739800" cy="674640"/>
          </a:xfrm>
        </p:grpSpPr>
        <p:sp>
          <p:nvSpPr>
            <p:cNvPr id="3816" name=""/>
            <p:cNvSpPr/>
            <p:nvPr/>
          </p:nvSpPr>
          <p:spPr>
            <a:xfrm>
              <a:off x="8223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8223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8204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19" name=""/>
          <p:cNvGrpSpPr/>
          <p:nvPr/>
        </p:nvGrpSpPr>
        <p:grpSpPr>
          <a:xfrm>
            <a:off x="1635120" y="2597040"/>
            <a:ext cx="739800" cy="674640"/>
            <a:chOff x="1635120" y="2597040"/>
            <a:chExt cx="739800" cy="674640"/>
          </a:xfrm>
        </p:grpSpPr>
        <p:sp>
          <p:nvSpPr>
            <p:cNvPr id="3820" name=""/>
            <p:cNvSpPr/>
            <p:nvPr/>
          </p:nvSpPr>
          <p:spPr>
            <a:xfrm>
              <a:off x="165420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65420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63512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23" name=""/>
          <p:cNvGrpSpPr/>
          <p:nvPr/>
        </p:nvGrpSpPr>
        <p:grpSpPr>
          <a:xfrm>
            <a:off x="2571840" y="2597040"/>
            <a:ext cx="739800" cy="674640"/>
            <a:chOff x="2571840" y="2597040"/>
            <a:chExt cx="739800" cy="674640"/>
          </a:xfrm>
        </p:grpSpPr>
        <p:sp>
          <p:nvSpPr>
            <p:cNvPr id="3824" name=""/>
            <p:cNvSpPr/>
            <p:nvPr/>
          </p:nvSpPr>
          <p:spPr>
            <a:xfrm>
              <a:off x="25909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5909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25718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27" name=""/>
          <p:cNvGrpSpPr/>
          <p:nvPr/>
        </p:nvGrpSpPr>
        <p:grpSpPr>
          <a:xfrm>
            <a:off x="3506760" y="2597040"/>
            <a:ext cx="739800" cy="674640"/>
            <a:chOff x="3506760" y="2597040"/>
            <a:chExt cx="739800" cy="674640"/>
          </a:xfrm>
        </p:grpSpPr>
        <p:sp>
          <p:nvSpPr>
            <p:cNvPr id="3828" name=""/>
            <p:cNvSpPr/>
            <p:nvPr/>
          </p:nvSpPr>
          <p:spPr>
            <a:xfrm>
              <a:off x="352584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352584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350676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4443480" y="2597040"/>
            <a:ext cx="739800" cy="674640"/>
            <a:chOff x="4443480" y="2597040"/>
            <a:chExt cx="739800" cy="674640"/>
          </a:xfrm>
        </p:grpSpPr>
        <p:sp>
          <p:nvSpPr>
            <p:cNvPr id="3832" name=""/>
            <p:cNvSpPr/>
            <p:nvPr/>
          </p:nvSpPr>
          <p:spPr>
            <a:xfrm>
              <a:off x="446256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446256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44348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35" name=""/>
          <p:cNvGrpSpPr/>
          <p:nvPr/>
        </p:nvGrpSpPr>
        <p:grpSpPr>
          <a:xfrm>
            <a:off x="5396040" y="2597040"/>
            <a:ext cx="739800" cy="674640"/>
            <a:chOff x="5396040" y="2597040"/>
            <a:chExt cx="739800" cy="674640"/>
          </a:xfrm>
        </p:grpSpPr>
        <p:sp>
          <p:nvSpPr>
            <p:cNvPr id="3836" name=""/>
            <p:cNvSpPr/>
            <p:nvPr/>
          </p:nvSpPr>
          <p:spPr>
            <a:xfrm>
              <a:off x="5415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415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396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6332400" y="2597040"/>
            <a:ext cx="739800" cy="674640"/>
            <a:chOff x="6332400" y="2597040"/>
            <a:chExt cx="739800" cy="674640"/>
          </a:xfrm>
        </p:grpSpPr>
        <p:sp>
          <p:nvSpPr>
            <p:cNvPr id="3840" name=""/>
            <p:cNvSpPr/>
            <p:nvPr/>
          </p:nvSpPr>
          <p:spPr>
            <a:xfrm>
              <a:off x="635148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635148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33240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43" name=""/>
          <p:cNvGrpSpPr/>
          <p:nvPr/>
        </p:nvGrpSpPr>
        <p:grpSpPr>
          <a:xfrm>
            <a:off x="8204040" y="2597040"/>
            <a:ext cx="739800" cy="674640"/>
            <a:chOff x="8204040" y="2597040"/>
            <a:chExt cx="739800" cy="674640"/>
          </a:xfrm>
        </p:grpSpPr>
        <p:sp>
          <p:nvSpPr>
            <p:cNvPr id="3844" name=""/>
            <p:cNvSpPr/>
            <p:nvPr/>
          </p:nvSpPr>
          <p:spPr>
            <a:xfrm>
              <a:off x="8223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8223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8204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847" name=""/>
          <p:cNvSpPr/>
          <p:nvPr/>
        </p:nvSpPr>
        <p:spPr>
          <a:xfrm>
            <a:off x="86400" y="39877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86400" y="27241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233028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32608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42004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514044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6093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7020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795960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 flipV="1">
            <a:off x="2117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30510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 flipV="1">
            <a:off x="3984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 flipV="1">
            <a:off x="4924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V="1">
            <a:off x="58705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6791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 flipV="1">
            <a:off x="77500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 flipV="1">
            <a:off x="8690040" y="4495320"/>
            <a:ext cx="0" cy="4762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22701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31845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413712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5070600" y="44956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601020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694368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78897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 flipV="1">
            <a:off x="2117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 flipV="1">
            <a:off x="30510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 flipV="1">
            <a:off x="3984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 flipV="1">
            <a:off x="4924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 flipV="1">
            <a:off x="58705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 flipV="1">
            <a:off x="6791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 flipV="1">
            <a:off x="7750080" y="3263400"/>
            <a:ext cx="0" cy="567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 flipV="1">
            <a:off x="86900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2320920" y="239400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3260880" y="228132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4200480" y="219240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5140440" y="2100240"/>
            <a:ext cx="3060720" cy="59868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2320920" y="36432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325440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4194000" y="36432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513396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608004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86400" y="512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01001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8223120" y="49719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8223120" y="498168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8204040" y="53244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893" name=""/>
          <p:cNvGrpSpPr/>
          <p:nvPr/>
        </p:nvGrpSpPr>
        <p:grpSpPr>
          <a:xfrm>
            <a:off x="2563920" y="941400"/>
            <a:ext cx="739800" cy="674640"/>
            <a:chOff x="2563920" y="941400"/>
            <a:chExt cx="739800" cy="674640"/>
          </a:xfrm>
        </p:grpSpPr>
        <p:sp>
          <p:nvSpPr>
            <p:cNvPr id="3894" name=""/>
            <p:cNvSpPr/>
            <p:nvPr/>
          </p:nvSpPr>
          <p:spPr>
            <a:xfrm>
              <a:off x="258300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58300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56392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97" name=""/>
          <p:cNvGrpSpPr/>
          <p:nvPr/>
        </p:nvGrpSpPr>
        <p:grpSpPr>
          <a:xfrm>
            <a:off x="3498840" y="941400"/>
            <a:ext cx="739800" cy="674640"/>
            <a:chOff x="3498840" y="941400"/>
            <a:chExt cx="739800" cy="674640"/>
          </a:xfrm>
        </p:grpSpPr>
        <p:sp>
          <p:nvSpPr>
            <p:cNvPr id="3898" name=""/>
            <p:cNvSpPr/>
            <p:nvPr/>
          </p:nvSpPr>
          <p:spPr>
            <a:xfrm>
              <a:off x="351792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351792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49884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01" name=""/>
          <p:cNvSpPr/>
          <p:nvPr/>
        </p:nvSpPr>
        <p:spPr>
          <a:xfrm>
            <a:off x="44280" y="94284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eric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3251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 flipH="1">
            <a:off x="216540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04" name=""/>
          <p:cNvGrpSpPr/>
          <p:nvPr/>
        </p:nvGrpSpPr>
        <p:grpSpPr>
          <a:xfrm>
            <a:off x="4437000" y="941400"/>
            <a:ext cx="739800" cy="674640"/>
            <a:chOff x="4437000" y="941400"/>
            <a:chExt cx="739800" cy="674640"/>
          </a:xfrm>
        </p:grpSpPr>
        <p:sp>
          <p:nvSpPr>
            <p:cNvPr id="3905" name=""/>
            <p:cNvSpPr/>
            <p:nvPr/>
          </p:nvSpPr>
          <p:spPr>
            <a:xfrm>
              <a:off x="445608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45608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43700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cc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08" name=""/>
          <p:cNvSpPr/>
          <p:nvPr/>
        </p:nvSpPr>
        <p:spPr>
          <a:xfrm>
            <a:off x="419112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09" name=""/>
          <p:cNvGrpSpPr/>
          <p:nvPr/>
        </p:nvGrpSpPr>
        <p:grpSpPr>
          <a:xfrm>
            <a:off x="5376960" y="941400"/>
            <a:ext cx="739800" cy="674640"/>
            <a:chOff x="5376960" y="941400"/>
            <a:chExt cx="739800" cy="674640"/>
          </a:xfrm>
        </p:grpSpPr>
        <p:sp>
          <p:nvSpPr>
            <p:cNvPr id="3910" name=""/>
            <p:cNvSpPr/>
            <p:nvPr/>
          </p:nvSpPr>
          <p:spPr>
            <a:xfrm>
              <a:off x="539604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39604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37696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13" name=""/>
          <p:cNvSpPr/>
          <p:nvPr/>
        </p:nvSpPr>
        <p:spPr>
          <a:xfrm>
            <a:off x="513072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076800" y="128124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15" name=""/>
          <p:cNvGrpSpPr/>
          <p:nvPr/>
        </p:nvGrpSpPr>
        <p:grpSpPr>
          <a:xfrm>
            <a:off x="7245360" y="941400"/>
            <a:ext cx="739800" cy="674640"/>
            <a:chOff x="7245360" y="941400"/>
            <a:chExt cx="739800" cy="674640"/>
          </a:xfrm>
        </p:grpSpPr>
        <p:sp>
          <p:nvSpPr>
            <p:cNvPr id="3916" name=""/>
            <p:cNvSpPr/>
            <p:nvPr/>
          </p:nvSpPr>
          <p:spPr>
            <a:xfrm>
              <a:off x="726444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726444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724536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19" name=""/>
          <p:cNvSpPr/>
          <p:nvPr/>
        </p:nvSpPr>
        <p:spPr>
          <a:xfrm>
            <a:off x="7004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794376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7286760" y="38289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7286760" y="383868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7267680" y="41814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7286760" y="25970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7286760" y="2606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7267680" y="29494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6667560" y="1609560"/>
            <a:ext cx="954000" cy="971640"/>
          </a:xfrm>
          <a:custGeom>
            <a:avLst/>
            <a:gdLst/>
            <a:ahLst/>
            <a:rect l="l" t="t" r="r" b="b"/>
            <a:pathLst>
              <a:path w="607" h="600">
                <a:moveTo>
                  <a:pt x="606" y="600"/>
                </a:moveTo>
                <a:cubicBezTo>
                  <a:pt x="592" y="542"/>
                  <a:pt x="607" y="323"/>
                  <a:pt x="522" y="252"/>
                </a:cubicBezTo>
                <a:cubicBezTo>
                  <a:pt x="437" y="181"/>
                  <a:pt x="183" y="216"/>
                  <a:pt x="96" y="174"/>
                </a:cubicBezTo>
                <a:cubicBezTo>
                  <a:pt x="9" y="132"/>
                  <a:pt x="20" y="3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6330960" y="94140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6330960" y="950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6311880" y="129384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Existing Overlay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Chord, Pastry </a:t>
            </a:r>
            <a:r>
              <a:rPr b="0" i="1" lang="en-CA" sz="2000" spc="-1" strike="noStrike">
                <a:solidFill>
                  <a:srgbClr val="546e88"/>
                </a:solidFill>
                <a:latin typeface="Arial"/>
              </a:rPr>
              <a:t>(200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Distributed hash table, O(log N) pointers per n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Viceroy, Koorde </a:t>
            </a:r>
            <a:r>
              <a:rPr b="0" i="1" lang="en-CA" sz="2000" spc="-1" strike="noStrike">
                <a:solidFill>
                  <a:srgbClr val="546e88"/>
                </a:solidFill>
                <a:latin typeface="Arial"/>
              </a:rPr>
              <a:t>(2002/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Distributed hash table, O(1) pointers per n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dvantage: lower maintenance bandwid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SkipNet, Skip Graphs </a:t>
            </a:r>
            <a:r>
              <a:rPr b="0" i="1" lang="en-CA" sz="2000" spc="-1" strike="noStrike">
                <a:solidFill>
                  <a:srgbClr val="546e88"/>
                </a:solidFill>
                <a:latin typeface="Arial"/>
              </a:rPr>
              <a:t>(200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Ordered by arbitrary key, O(log N) pointers per n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dvantages: dictionary operations, range queries, loc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66"/>
                </a:solidFill>
                <a:latin typeface="Arial"/>
              </a:rPr>
              <a:t>Our Contribution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: structure ordered by arbitrary key, with O(1) pointers per node and optimal conges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"/>
          <p:cNvSpPr/>
          <p:nvPr/>
        </p:nvSpPr>
        <p:spPr>
          <a:xfrm>
            <a:off x="702000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 flipV="1">
            <a:off x="18892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 flipV="1">
            <a:off x="2822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 flipV="1">
            <a:off x="3755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V="1">
            <a:off x="46958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 flipV="1">
            <a:off x="56419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V="1">
            <a:off x="65628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7521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 flipV="1">
            <a:off x="8461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V="1">
            <a:off x="18892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 flipV="1">
            <a:off x="2822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 flipV="1">
            <a:off x="3755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 flipV="1">
            <a:off x="46958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 flipV="1">
            <a:off x="56419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 flipV="1">
            <a:off x="65628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 flipV="1">
            <a:off x="7521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 flipV="1">
            <a:off x="8461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691848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597204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503244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409896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314640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222552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umeric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55" name=""/>
          <p:cNvGrpSpPr/>
          <p:nvPr/>
        </p:nvGrpSpPr>
        <p:grpSpPr>
          <a:xfrm>
            <a:off x="1635120" y="4971960"/>
            <a:ext cx="739800" cy="674640"/>
            <a:chOff x="1635120" y="4971960"/>
            <a:chExt cx="739800" cy="674640"/>
          </a:xfrm>
        </p:grpSpPr>
        <p:sp>
          <p:nvSpPr>
            <p:cNvPr id="3956" name=""/>
            <p:cNvSpPr/>
            <p:nvPr/>
          </p:nvSpPr>
          <p:spPr>
            <a:xfrm>
              <a:off x="165420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65420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63512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2571840" y="4971960"/>
            <a:ext cx="739800" cy="674640"/>
            <a:chOff x="2571840" y="4971960"/>
            <a:chExt cx="739800" cy="674640"/>
          </a:xfrm>
        </p:grpSpPr>
        <p:sp>
          <p:nvSpPr>
            <p:cNvPr id="3960" name=""/>
            <p:cNvSpPr/>
            <p:nvPr/>
          </p:nvSpPr>
          <p:spPr>
            <a:xfrm>
              <a:off x="25909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5909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5718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63" name=""/>
          <p:cNvGrpSpPr/>
          <p:nvPr/>
        </p:nvGrpSpPr>
        <p:grpSpPr>
          <a:xfrm>
            <a:off x="3506760" y="4971960"/>
            <a:ext cx="739800" cy="674640"/>
            <a:chOff x="3506760" y="4971960"/>
            <a:chExt cx="739800" cy="674640"/>
          </a:xfrm>
        </p:grpSpPr>
        <p:sp>
          <p:nvSpPr>
            <p:cNvPr id="3964" name=""/>
            <p:cNvSpPr/>
            <p:nvPr/>
          </p:nvSpPr>
          <p:spPr>
            <a:xfrm>
              <a:off x="352584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352584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350676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cc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67" name=""/>
          <p:cNvGrpSpPr/>
          <p:nvPr/>
        </p:nvGrpSpPr>
        <p:grpSpPr>
          <a:xfrm>
            <a:off x="4443480" y="4971960"/>
            <a:ext cx="739800" cy="674640"/>
            <a:chOff x="4443480" y="4971960"/>
            <a:chExt cx="739800" cy="674640"/>
          </a:xfrm>
        </p:grpSpPr>
        <p:sp>
          <p:nvSpPr>
            <p:cNvPr id="3968" name=""/>
            <p:cNvSpPr/>
            <p:nvPr/>
          </p:nvSpPr>
          <p:spPr>
            <a:xfrm>
              <a:off x="44625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44625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44434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71" name=""/>
          <p:cNvGrpSpPr/>
          <p:nvPr/>
        </p:nvGrpSpPr>
        <p:grpSpPr>
          <a:xfrm>
            <a:off x="5396040" y="4971960"/>
            <a:ext cx="739800" cy="674640"/>
            <a:chOff x="5396040" y="4971960"/>
            <a:chExt cx="739800" cy="674640"/>
          </a:xfrm>
        </p:grpSpPr>
        <p:sp>
          <p:nvSpPr>
            <p:cNvPr id="3972" name=""/>
            <p:cNvSpPr/>
            <p:nvPr/>
          </p:nvSpPr>
          <p:spPr>
            <a:xfrm>
              <a:off x="54151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4151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3960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75" name=""/>
          <p:cNvGrpSpPr/>
          <p:nvPr/>
        </p:nvGrpSpPr>
        <p:grpSpPr>
          <a:xfrm>
            <a:off x="6332400" y="4971960"/>
            <a:ext cx="739800" cy="674640"/>
            <a:chOff x="6332400" y="4971960"/>
            <a:chExt cx="739800" cy="674640"/>
          </a:xfrm>
        </p:grpSpPr>
        <p:sp>
          <p:nvSpPr>
            <p:cNvPr id="3976" name=""/>
            <p:cNvSpPr/>
            <p:nvPr/>
          </p:nvSpPr>
          <p:spPr>
            <a:xfrm>
              <a:off x="635148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635148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633240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79" name=""/>
          <p:cNvGrpSpPr/>
          <p:nvPr/>
        </p:nvGrpSpPr>
        <p:grpSpPr>
          <a:xfrm>
            <a:off x="7267680" y="4971960"/>
            <a:ext cx="739800" cy="674640"/>
            <a:chOff x="7267680" y="4971960"/>
            <a:chExt cx="739800" cy="674640"/>
          </a:xfrm>
        </p:grpSpPr>
        <p:sp>
          <p:nvSpPr>
            <p:cNvPr id="3980" name=""/>
            <p:cNvSpPr/>
            <p:nvPr/>
          </p:nvSpPr>
          <p:spPr>
            <a:xfrm>
              <a:off x="72867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72867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72676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83" name=""/>
          <p:cNvGrpSpPr/>
          <p:nvPr/>
        </p:nvGrpSpPr>
        <p:grpSpPr>
          <a:xfrm>
            <a:off x="1635120" y="3828960"/>
            <a:ext cx="739800" cy="674640"/>
            <a:chOff x="1635120" y="3828960"/>
            <a:chExt cx="739800" cy="674640"/>
          </a:xfrm>
        </p:grpSpPr>
        <p:sp>
          <p:nvSpPr>
            <p:cNvPr id="3984" name=""/>
            <p:cNvSpPr/>
            <p:nvPr/>
          </p:nvSpPr>
          <p:spPr>
            <a:xfrm>
              <a:off x="165420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65420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63512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87" name=""/>
          <p:cNvGrpSpPr/>
          <p:nvPr/>
        </p:nvGrpSpPr>
        <p:grpSpPr>
          <a:xfrm>
            <a:off x="2571840" y="3828960"/>
            <a:ext cx="739800" cy="674640"/>
            <a:chOff x="2571840" y="3828960"/>
            <a:chExt cx="739800" cy="674640"/>
          </a:xfrm>
        </p:grpSpPr>
        <p:sp>
          <p:nvSpPr>
            <p:cNvPr id="3988" name=""/>
            <p:cNvSpPr/>
            <p:nvPr/>
          </p:nvSpPr>
          <p:spPr>
            <a:xfrm>
              <a:off x="25909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5909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5718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91" name=""/>
          <p:cNvGrpSpPr/>
          <p:nvPr/>
        </p:nvGrpSpPr>
        <p:grpSpPr>
          <a:xfrm>
            <a:off x="3506760" y="3828960"/>
            <a:ext cx="739800" cy="674640"/>
            <a:chOff x="3506760" y="3828960"/>
            <a:chExt cx="739800" cy="674640"/>
          </a:xfrm>
        </p:grpSpPr>
        <p:sp>
          <p:nvSpPr>
            <p:cNvPr id="3992" name=""/>
            <p:cNvSpPr/>
            <p:nvPr/>
          </p:nvSpPr>
          <p:spPr>
            <a:xfrm>
              <a:off x="352584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352584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350676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95" name=""/>
          <p:cNvGrpSpPr/>
          <p:nvPr/>
        </p:nvGrpSpPr>
        <p:grpSpPr>
          <a:xfrm>
            <a:off x="4443480" y="3828960"/>
            <a:ext cx="739800" cy="674640"/>
            <a:chOff x="4443480" y="3828960"/>
            <a:chExt cx="739800" cy="674640"/>
          </a:xfrm>
        </p:grpSpPr>
        <p:sp>
          <p:nvSpPr>
            <p:cNvPr id="3996" name=""/>
            <p:cNvSpPr/>
            <p:nvPr/>
          </p:nvSpPr>
          <p:spPr>
            <a:xfrm>
              <a:off x="446256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446256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444348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99" name=""/>
          <p:cNvGrpSpPr/>
          <p:nvPr/>
        </p:nvGrpSpPr>
        <p:grpSpPr>
          <a:xfrm>
            <a:off x="5396040" y="3828960"/>
            <a:ext cx="739800" cy="674640"/>
            <a:chOff x="5396040" y="3828960"/>
            <a:chExt cx="739800" cy="674640"/>
          </a:xfrm>
        </p:grpSpPr>
        <p:sp>
          <p:nvSpPr>
            <p:cNvPr id="4000" name=""/>
            <p:cNvSpPr/>
            <p:nvPr/>
          </p:nvSpPr>
          <p:spPr>
            <a:xfrm>
              <a:off x="5415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5415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396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03" name=""/>
          <p:cNvGrpSpPr/>
          <p:nvPr/>
        </p:nvGrpSpPr>
        <p:grpSpPr>
          <a:xfrm>
            <a:off x="6332400" y="3828960"/>
            <a:ext cx="739800" cy="674640"/>
            <a:chOff x="6332400" y="3828960"/>
            <a:chExt cx="739800" cy="674640"/>
          </a:xfrm>
        </p:grpSpPr>
        <p:sp>
          <p:nvSpPr>
            <p:cNvPr id="4004" name=""/>
            <p:cNvSpPr/>
            <p:nvPr/>
          </p:nvSpPr>
          <p:spPr>
            <a:xfrm>
              <a:off x="635148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635148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633240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07" name=""/>
          <p:cNvGrpSpPr/>
          <p:nvPr/>
        </p:nvGrpSpPr>
        <p:grpSpPr>
          <a:xfrm>
            <a:off x="8204040" y="3828960"/>
            <a:ext cx="739800" cy="674640"/>
            <a:chOff x="8204040" y="3828960"/>
            <a:chExt cx="739800" cy="674640"/>
          </a:xfrm>
        </p:grpSpPr>
        <p:sp>
          <p:nvSpPr>
            <p:cNvPr id="4008" name=""/>
            <p:cNvSpPr/>
            <p:nvPr/>
          </p:nvSpPr>
          <p:spPr>
            <a:xfrm>
              <a:off x="8223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8223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8204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11" name=""/>
          <p:cNvGrpSpPr/>
          <p:nvPr/>
        </p:nvGrpSpPr>
        <p:grpSpPr>
          <a:xfrm>
            <a:off x="1635120" y="2597040"/>
            <a:ext cx="739800" cy="674640"/>
            <a:chOff x="1635120" y="2597040"/>
            <a:chExt cx="739800" cy="674640"/>
          </a:xfrm>
        </p:grpSpPr>
        <p:sp>
          <p:nvSpPr>
            <p:cNvPr id="4012" name=""/>
            <p:cNvSpPr/>
            <p:nvPr/>
          </p:nvSpPr>
          <p:spPr>
            <a:xfrm>
              <a:off x="165420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65420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63512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15" name=""/>
          <p:cNvGrpSpPr/>
          <p:nvPr/>
        </p:nvGrpSpPr>
        <p:grpSpPr>
          <a:xfrm>
            <a:off x="2571840" y="2597040"/>
            <a:ext cx="739800" cy="674640"/>
            <a:chOff x="2571840" y="2597040"/>
            <a:chExt cx="739800" cy="674640"/>
          </a:xfrm>
        </p:grpSpPr>
        <p:sp>
          <p:nvSpPr>
            <p:cNvPr id="4016" name=""/>
            <p:cNvSpPr/>
            <p:nvPr/>
          </p:nvSpPr>
          <p:spPr>
            <a:xfrm>
              <a:off x="25909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5909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5718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19" name=""/>
          <p:cNvGrpSpPr/>
          <p:nvPr/>
        </p:nvGrpSpPr>
        <p:grpSpPr>
          <a:xfrm>
            <a:off x="3506760" y="2597040"/>
            <a:ext cx="739800" cy="674640"/>
            <a:chOff x="3506760" y="2597040"/>
            <a:chExt cx="739800" cy="674640"/>
          </a:xfrm>
        </p:grpSpPr>
        <p:sp>
          <p:nvSpPr>
            <p:cNvPr id="4020" name=""/>
            <p:cNvSpPr/>
            <p:nvPr/>
          </p:nvSpPr>
          <p:spPr>
            <a:xfrm>
              <a:off x="352584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352584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50676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23" name=""/>
          <p:cNvGrpSpPr/>
          <p:nvPr/>
        </p:nvGrpSpPr>
        <p:grpSpPr>
          <a:xfrm>
            <a:off x="4443480" y="2597040"/>
            <a:ext cx="739800" cy="674640"/>
            <a:chOff x="4443480" y="2597040"/>
            <a:chExt cx="739800" cy="674640"/>
          </a:xfrm>
        </p:grpSpPr>
        <p:sp>
          <p:nvSpPr>
            <p:cNvPr id="4024" name=""/>
            <p:cNvSpPr/>
            <p:nvPr/>
          </p:nvSpPr>
          <p:spPr>
            <a:xfrm>
              <a:off x="446256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446256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444348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27" name=""/>
          <p:cNvGrpSpPr/>
          <p:nvPr/>
        </p:nvGrpSpPr>
        <p:grpSpPr>
          <a:xfrm>
            <a:off x="5396040" y="2597040"/>
            <a:ext cx="739800" cy="674640"/>
            <a:chOff x="5396040" y="2597040"/>
            <a:chExt cx="739800" cy="674640"/>
          </a:xfrm>
        </p:grpSpPr>
        <p:sp>
          <p:nvSpPr>
            <p:cNvPr id="4028" name=""/>
            <p:cNvSpPr/>
            <p:nvPr/>
          </p:nvSpPr>
          <p:spPr>
            <a:xfrm>
              <a:off x="5415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415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396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31" name=""/>
          <p:cNvGrpSpPr/>
          <p:nvPr/>
        </p:nvGrpSpPr>
        <p:grpSpPr>
          <a:xfrm>
            <a:off x="6332400" y="2597040"/>
            <a:ext cx="739800" cy="674640"/>
            <a:chOff x="6332400" y="2597040"/>
            <a:chExt cx="739800" cy="674640"/>
          </a:xfrm>
        </p:grpSpPr>
        <p:sp>
          <p:nvSpPr>
            <p:cNvPr id="4032" name=""/>
            <p:cNvSpPr/>
            <p:nvPr/>
          </p:nvSpPr>
          <p:spPr>
            <a:xfrm>
              <a:off x="635148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635148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633240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35" name=""/>
          <p:cNvGrpSpPr/>
          <p:nvPr/>
        </p:nvGrpSpPr>
        <p:grpSpPr>
          <a:xfrm>
            <a:off x="8204040" y="2597040"/>
            <a:ext cx="739800" cy="674640"/>
            <a:chOff x="8204040" y="2597040"/>
            <a:chExt cx="739800" cy="674640"/>
          </a:xfrm>
        </p:grpSpPr>
        <p:sp>
          <p:nvSpPr>
            <p:cNvPr id="4036" name=""/>
            <p:cNvSpPr/>
            <p:nvPr/>
          </p:nvSpPr>
          <p:spPr>
            <a:xfrm>
              <a:off x="8223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8223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8204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039" name=""/>
          <p:cNvSpPr/>
          <p:nvPr/>
        </p:nvSpPr>
        <p:spPr>
          <a:xfrm>
            <a:off x="86400" y="39877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86400" y="27241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233028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32608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42004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14044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093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7020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795960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 flipV="1">
            <a:off x="2117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 flipV="1">
            <a:off x="30510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 flipV="1">
            <a:off x="3984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 flipV="1">
            <a:off x="4924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 flipV="1">
            <a:off x="58705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 flipV="1">
            <a:off x="6791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 flipV="1">
            <a:off x="77500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 flipV="1">
            <a:off x="8690040" y="4495320"/>
            <a:ext cx="0" cy="4762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22701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31845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413712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5070600" y="44956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601020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694368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78897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 flipV="1">
            <a:off x="2117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 flipV="1">
            <a:off x="30510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 flipV="1">
            <a:off x="3984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 flipV="1">
            <a:off x="4924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 flipV="1">
            <a:off x="58705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 flipV="1">
            <a:off x="6791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 flipV="1">
            <a:off x="7750080" y="3263400"/>
            <a:ext cx="0" cy="567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flipV="1">
            <a:off x="86900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2320920" y="239400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3260880" y="228132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4200480" y="219240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5140440" y="2100240"/>
            <a:ext cx="3060720" cy="59868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2320920" y="36432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325440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4194000" y="36432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513396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608004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86400" y="512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01001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8223120" y="49719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8223120" y="498168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8204040" y="53244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085" name=""/>
          <p:cNvGrpSpPr/>
          <p:nvPr/>
        </p:nvGrpSpPr>
        <p:grpSpPr>
          <a:xfrm>
            <a:off x="2563920" y="941400"/>
            <a:ext cx="739800" cy="674640"/>
            <a:chOff x="2563920" y="941400"/>
            <a:chExt cx="739800" cy="674640"/>
          </a:xfrm>
        </p:grpSpPr>
        <p:sp>
          <p:nvSpPr>
            <p:cNvPr id="4086" name=""/>
            <p:cNvSpPr/>
            <p:nvPr/>
          </p:nvSpPr>
          <p:spPr>
            <a:xfrm>
              <a:off x="258300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58300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56392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3498840" y="941400"/>
            <a:ext cx="739800" cy="674640"/>
            <a:chOff x="3498840" y="941400"/>
            <a:chExt cx="739800" cy="674640"/>
          </a:xfrm>
        </p:grpSpPr>
        <p:sp>
          <p:nvSpPr>
            <p:cNvPr id="4090" name=""/>
            <p:cNvSpPr/>
            <p:nvPr/>
          </p:nvSpPr>
          <p:spPr>
            <a:xfrm>
              <a:off x="351792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351792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349884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093" name=""/>
          <p:cNvSpPr/>
          <p:nvPr/>
        </p:nvSpPr>
        <p:spPr>
          <a:xfrm>
            <a:off x="44280" y="94284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eric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3251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 flipH="1">
            <a:off x="216540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419112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5130720" y="128124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6076800" y="128124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099" name=""/>
          <p:cNvGrpSpPr/>
          <p:nvPr/>
        </p:nvGrpSpPr>
        <p:grpSpPr>
          <a:xfrm>
            <a:off x="7245360" y="941400"/>
            <a:ext cx="739800" cy="674640"/>
            <a:chOff x="7245360" y="941400"/>
            <a:chExt cx="739800" cy="674640"/>
          </a:xfrm>
        </p:grpSpPr>
        <p:sp>
          <p:nvSpPr>
            <p:cNvPr id="4100" name=""/>
            <p:cNvSpPr/>
            <p:nvPr/>
          </p:nvSpPr>
          <p:spPr>
            <a:xfrm>
              <a:off x="726444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26444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724536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103" name=""/>
          <p:cNvSpPr/>
          <p:nvPr/>
        </p:nvSpPr>
        <p:spPr>
          <a:xfrm>
            <a:off x="7004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794376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7286760" y="38289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7286760" y="383868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7267680" y="41814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7286760" y="25970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7286760" y="2606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7267680" y="29494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6667560" y="1609560"/>
            <a:ext cx="954000" cy="971640"/>
          </a:xfrm>
          <a:custGeom>
            <a:avLst/>
            <a:gdLst/>
            <a:ahLst/>
            <a:rect l="l" t="t" r="r" b="b"/>
            <a:pathLst>
              <a:path w="607" h="600">
                <a:moveTo>
                  <a:pt x="606" y="600"/>
                </a:moveTo>
                <a:cubicBezTo>
                  <a:pt x="592" y="542"/>
                  <a:pt x="607" y="323"/>
                  <a:pt x="522" y="252"/>
                </a:cubicBezTo>
                <a:cubicBezTo>
                  <a:pt x="437" y="181"/>
                  <a:pt x="183" y="216"/>
                  <a:pt x="96" y="174"/>
                </a:cubicBezTo>
                <a:cubicBezTo>
                  <a:pt x="9" y="132"/>
                  <a:pt x="20" y="3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6330960" y="94140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6330960" y="950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6311880" y="129384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5396040" y="94140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5396040" y="950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7" name=""/>
          <p:cNvSpPr/>
          <p:nvPr/>
        </p:nvSpPr>
        <p:spPr>
          <a:xfrm>
            <a:off x="5376960" y="129384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4456080" y="941400"/>
            <a:ext cx="669960" cy="6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4456080" y="950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4437000" y="129384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01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"/>
          <p:cNvSpPr/>
          <p:nvPr/>
        </p:nvSpPr>
        <p:spPr>
          <a:xfrm>
            <a:off x="702000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 flipV="1">
            <a:off x="18892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 flipV="1">
            <a:off x="2822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3755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 flipV="1">
            <a:off x="46958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 flipV="1">
            <a:off x="56419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 flipV="1">
            <a:off x="65628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 flipV="1">
            <a:off x="7521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 flipV="1">
            <a:off x="8461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18892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2822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 flipV="1">
            <a:off x="3755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 flipV="1">
            <a:off x="46958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 flipV="1">
            <a:off x="56419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 flipV="1">
            <a:off x="65628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 flipV="1">
            <a:off x="7521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 flipV="1">
            <a:off x="8461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691848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597204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503244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4098960" y="3263760"/>
            <a:ext cx="139680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314640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2225520" y="3263760"/>
            <a:ext cx="1397160" cy="56700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Searching by numeric I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45" name=""/>
          <p:cNvGrpSpPr/>
          <p:nvPr/>
        </p:nvGrpSpPr>
        <p:grpSpPr>
          <a:xfrm>
            <a:off x="1635120" y="4971960"/>
            <a:ext cx="739800" cy="674640"/>
            <a:chOff x="1635120" y="4971960"/>
            <a:chExt cx="739800" cy="674640"/>
          </a:xfrm>
        </p:grpSpPr>
        <p:sp>
          <p:nvSpPr>
            <p:cNvPr id="4146" name=""/>
            <p:cNvSpPr/>
            <p:nvPr/>
          </p:nvSpPr>
          <p:spPr>
            <a:xfrm>
              <a:off x="165420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65420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63512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49" name=""/>
          <p:cNvGrpSpPr/>
          <p:nvPr/>
        </p:nvGrpSpPr>
        <p:grpSpPr>
          <a:xfrm>
            <a:off x="2571840" y="4971960"/>
            <a:ext cx="739800" cy="674640"/>
            <a:chOff x="2571840" y="4971960"/>
            <a:chExt cx="739800" cy="674640"/>
          </a:xfrm>
        </p:grpSpPr>
        <p:sp>
          <p:nvSpPr>
            <p:cNvPr id="4150" name=""/>
            <p:cNvSpPr/>
            <p:nvPr/>
          </p:nvSpPr>
          <p:spPr>
            <a:xfrm>
              <a:off x="25909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5909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5718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53" name=""/>
          <p:cNvGrpSpPr/>
          <p:nvPr/>
        </p:nvGrpSpPr>
        <p:grpSpPr>
          <a:xfrm>
            <a:off x="3506760" y="4971960"/>
            <a:ext cx="739800" cy="674640"/>
            <a:chOff x="3506760" y="4971960"/>
            <a:chExt cx="739800" cy="674640"/>
          </a:xfrm>
        </p:grpSpPr>
        <p:sp>
          <p:nvSpPr>
            <p:cNvPr id="4154" name=""/>
            <p:cNvSpPr/>
            <p:nvPr/>
          </p:nvSpPr>
          <p:spPr>
            <a:xfrm>
              <a:off x="352584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52584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50676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cc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4443480" y="4971960"/>
            <a:ext cx="739800" cy="674640"/>
            <a:chOff x="4443480" y="4971960"/>
            <a:chExt cx="739800" cy="674640"/>
          </a:xfrm>
        </p:grpSpPr>
        <p:sp>
          <p:nvSpPr>
            <p:cNvPr id="4158" name=""/>
            <p:cNvSpPr/>
            <p:nvPr/>
          </p:nvSpPr>
          <p:spPr>
            <a:xfrm>
              <a:off x="44625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44625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4434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61" name=""/>
          <p:cNvGrpSpPr/>
          <p:nvPr/>
        </p:nvGrpSpPr>
        <p:grpSpPr>
          <a:xfrm>
            <a:off x="5396040" y="4971960"/>
            <a:ext cx="739800" cy="674640"/>
            <a:chOff x="5396040" y="4971960"/>
            <a:chExt cx="739800" cy="674640"/>
          </a:xfrm>
        </p:grpSpPr>
        <p:sp>
          <p:nvSpPr>
            <p:cNvPr id="4162" name=""/>
            <p:cNvSpPr/>
            <p:nvPr/>
          </p:nvSpPr>
          <p:spPr>
            <a:xfrm>
              <a:off x="541512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41512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39604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65" name=""/>
          <p:cNvGrpSpPr/>
          <p:nvPr/>
        </p:nvGrpSpPr>
        <p:grpSpPr>
          <a:xfrm>
            <a:off x="6332400" y="4971960"/>
            <a:ext cx="739800" cy="674640"/>
            <a:chOff x="6332400" y="4971960"/>
            <a:chExt cx="739800" cy="674640"/>
          </a:xfrm>
        </p:grpSpPr>
        <p:sp>
          <p:nvSpPr>
            <p:cNvPr id="4166" name=""/>
            <p:cNvSpPr/>
            <p:nvPr/>
          </p:nvSpPr>
          <p:spPr>
            <a:xfrm>
              <a:off x="635148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635148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633240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69" name=""/>
          <p:cNvGrpSpPr/>
          <p:nvPr/>
        </p:nvGrpSpPr>
        <p:grpSpPr>
          <a:xfrm>
            <a:off x="7267680" y="4971960"/>
            <a:ext cx="739800" cy="674640"/>
            <a:chOff x="7267680" y="4971960"/>
            <a:chExt cx="739800" cy="674640"/>
          </a:xfrm>
        </p:grpSpPr>
        <p:sp>
          <p:nvSpPr>
            <p:cNvPr id="4170" name=""/>
            <p:cNvSpPr/>
            <p:nvPr/>
          </p:nvSpPr>
          <p:spPr>
            <a:xfrm>
              <a:off x="7286760" y="4971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7286760" y="4981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7267680" y="5324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1635120" y="3828960"/>
            <a:ext cx="739800" cy="674640"/>
            <a:chOff x="1635120" y="3828960"/>
            <a:chExt cx="739800" cy="674640"/>
          </a:xfrm>
        </p:grpSpPr>
        <p:sp>
          <p:nvSpPr>
            <p:cNvPr id="4174" name=""/>
            <p:cNvSpPr/>
            <p:nvPr/>
          </p:nvSpPr>
          <p:spPr>
            <a:xfrm>
              <a:off x="165420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65420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63512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77" name=""/>
          <p:cNvGrpSpPr/>
          <p:nvPr/>
        </p:nvGrpSpPr>
        <p:grpSpPr>
          <a:xfrm>
            <a:off x="2571840" y="3828960"/>
            <a:ext cx="739800" cy="674640"/>
            <a:chOff x="2571840" y="3828960"/>
            <a:chExt cx="739800" cy="674640"/>
          </a:xfrm>
        </p:grpSpPr>
        <p:sp>
          <p:nvSpPr>
            <p:cNvPr id="4178" name=""/>
            <p:cNvSpPr/>
            <p:nvPr/>
          </p:nvSpPr>
          <p:spPr>
            <a:xfrm>
              <a:off x="25909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5909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5718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81" name=""/>
          <p:cNvGrpSpPr/>
          <p:nvPr/>
        </p:nvGrpSpPr>
        <p:grpSpPr>
          <a:xfrm>
            <a:off x="3506760" y="3828960"/>
            <a:ext cx="739800" cy="674640"/>
            <a:chOff x="3506760" y="3828960"/>
            <a:chExt cx="739800" cy="674640"/>
          </a:xfrm>
        </p:grpSpPr>
        <p:sp>
          <p:nvSpPr>
            <p:cNvPr id="4182" name=""/>
            <p:cNvSpPr/>
            <p:nvPr/>
          </p:nvSpPr>
          <p:spPr>
            <a:xfrm>
              <a:off x="352584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352584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50676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85" name=""/>
          <p:cNvGrpSpPr/>
          <p:nvPr/>
        </p:nvGrpSpPr>
        <p:grpSpPr>
          <a:xfrm>
            <a:off x="4443480" y="3828960"/>
            <a:ext cx="739800" cy="674640"/>
            <a:chOff x="4443480" y="3828960"/>
            <a:chExt cx="739800" cy="674640"/>
          </a:xfrm>
        </p:grpSpPr>
        <p:sp>
          <p:nvSpPr>
            <p:cNvPr id="4186" name=""/>
            <p:cNvSpPr/>
            <p:nvPr/>
          </p:nvSpPr>
          <p:spPr>
            <a:xfrm>
              <a:off x="446256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446256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444348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89" name=""/>
          <p:cNvGrpSpPr/>
          <p:nvPr/>
        </p:nvGrpSpPr>
        <p:grpSpPr>
          <a:xfrm>
            <a:off x="5396040" y="3828960"/>
            <a:ext cx="739800" cy="674640"/>
            <a:chOff x="5396040" y="3828960"/>
            <a:chExt cx="739800" cy="674640"/>
          </a:xfrm>
        </p:grpSpPr>
        <p:sp>
          <p:nvSpPr>
            <p:cNvPr id="4190" name=""/>
            <p:cNvSpPr/>
            <p:nvPr/>
          </p:nvSpPr>
          <p:spPr>
            <a:xfrm>
              <a:off x="5415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415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396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93" name=""/>
          <p:cNvGrpSpPr/>
          <p:nvPr/>
        </p:nvGrpSpPr>
        <p:grpSpPr>
          <a:xfrm>
            <a:off x="6332400" y="3828960"/>
            <a:ext cx="739800" cy="674640"/>
            <a:chOff x="6332400" y="3828960"/>
            <a:chExt cx="739800" cy="674640"/>
          </a:xfrm>
        </p:grpSpPr>
        <p:sp>
          <p:nvSpPr>
            <p:cNvPr id="4194" name=""/>
            <p:cNvSpPr/>
            <p:nvPr/>
          </p:nvSpPr>
          <p:spPr>
            <a:xfrm>
              <a:off x="635148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635148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633240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97" name=""/>
          <p:cNvGrpSpPr/>
          <p:nvPr/>
        </p:nvGrpSpPr>
        <p:grpSpPr>
          <a:xfrm>
            <a:off x="8204040" y="3828960"/>
            <a:ext cx="739800" cy="674640"/>
            <a:chOff x="8204040" y="3828960"/>
            <a:chExt cx="739800" cy="674640"/>
          </a:xfrm>
        </p:grpSpPr>
        <p:sp>
          <p:nvSpPr>
            <p:cNvPr id="4198" name=""/>
            <p:cNvSpPr/>
            <p:nvPr/>
          </p:nvSpPr>
          <p:spPr>
            <a:xfrm>
              <a:off x="8223120" y="38289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8223120" y="38386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8204040" y="41814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01" name=""/>
          <p:cNvGrpSpPr/>
          <p:nvPr/>
        </p:nvGrpSpPr>
        <p:grpSpPr>
          <a:xfrm>
            <a:off x="1635120" y="2597040"/>
            <a:ext cx="739800" cy="674640"/>
            <a:chOff x="1635120" y="2597040"/>
            <a:chExt cx="739800" cy="674640"/>
          </a:xfrm>
        </p:grpSpPr>
        <p:sp>
          <p:nvSpPr>
            <p:cNvPr id="4202" name=""/>
            <p:cNvSpPr/>
            <p:nvPr/>
          </p:nvSpPr>
          <p:spPr>
            <a:xfrm>
              <a:off x="165420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165420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163512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05" name=""/>
          <p:cNvGrpSpPr/>
          <p:nvPr/>
        </p:nvGrpSpPr>
        <p:grpSpPr>
          <a:xfrm>
            <a:off x="2571840" y="2597040"/>
            <a:ext cx="739800" cy="674640"/>
            <a:chOff x="2571840" y="2597040"/>
            <a:chExt cx="739800" cy="674640"/>
          </a:xfrm>
        </p:grpSpPr>
        <p:sp>
          <p:nvSpPr>
            <p:cNvPr id="4206" name=""/>
            <p:cNvSpPr/>
            <p:nvPr/>
          </p:nvSpPr>
          <p:spPr>
            <a:xfrm>
              <a:off x="25909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5909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5718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09" name=""/>
          <p:cNvGrpSpPr/>
          <p:nvPr/>
        </p:nvGrpSpPr>
        <p:grpSpPr>
          <a:xfrm>
            <a:off x="3506760" y="2597040"/>
            <a:ext cx="739800" cy="674640"/>
            <a:chOff x="3506760" y="2597040"/>
            <a:chExt cx="739800" cy="674640"/>
          </a:xfrm>
        </p:grpSpPr>
        <p:sp>
          <p:nvSpPr>
            <p:cNvPr id="4210" name=""/>
            <p:cNvSpPr/>
            <p:nvPr/>
          </p:nvSpPr>
          <p:spPr>
            <a:xfrm>
              <a:off x="352584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52584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50676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13" name=""/>
          <p:cNvGrpSpPr/>
          <p:nvPr/>
        </p:nvGrpSpPr>
        <p:grpSpPr>
          <a:xfrm>
            <a:off x="4443480" y="2597040"/>
            <a:ext cx="739800" cy="674640"/>
            <a:chOff x="4443480" y="2597040"/>
            <a:chExt cx="739800" cy="674640"/>
          </a:xfrm>
        </p:grpSpPr>
        <p:sp>
          <p:nvSpPr>
            <p:cNvPr id="4214" name=""/>
            <p:cNvSpPr/>
            <p:nvPr/>
          </p:nvSpPr>
          <p:spPr>
            <a:xfrm>
              <a:off x="446256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446256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444348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17" name=""/>
          <p:cNvGrpSpPr/>
          <p:nvPr/>
        </p:nvGrpSpPr>
        <p:grpSpPr>
          <a:xfrm>
            <a:off x="5396040" y="2597040"/>
            <a:ext cx="739800" cy="674640"/>
            <a:chOff x="5396040" y="2597040"/>
            <a:chExt cx="739800" cy="674640"/>
          </a:xfrm>
        </p:grpSpPr>
        <p:sp>
          <p:nvSpPr>
            <p:cNvPr id="4218" name=""/>
            <p:cNvSpPr/>
            <p:nvPr/>
          </p:nvSpPr>
          <p:spPr>
            <a:xfrm>
              <a:off x="5415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415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396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6332400" y="2597040"/>
            <a:ext cx="739800" cy="674640"/>
            <a:chOff x="6332400" y="2597040"/>
            <a:chExt cx="739800" cy="674640"/>
          </a:xfrm>
        </p:grpSpPr>
        <p:sp>
          <p:nvSpPr>
            <p:cNvPr id="4222" name=""/>
            <p:cNvSpPr/>
            <p:nvPr/>
          </p:nvSpPr>
          <p:spPr>
            <a:xfrm>
              <a:off x="635148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635148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633240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25" name=""/>
          <p:cNvGrpSpPr/>
          <p:nvPr/>
        </p:nvGrpSpPr>
        <p:grpSpPr>
          <a:xfrm>
            <a:off x="8204040" y="2597040"/>
            <a:ext cx="739800" cy="674640"/>
            <a:chOff x="8204040" y="2597040"/>
            <a:chExt cx="739800" cy="674640"/>
          </a:xfrm>
        </p:grpSpPr>
        <p:sp>
          <p:nvSpPr>
            <p:cNvPr id="4226" name=""/>
            <p:cNvSpPr/>
            <p:nvPr/>
          </p:nvSpPr>
          <p:spPr>
            <a:xfrm>
              <a:off x="8223120" y="25970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8223120" y="26067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8204040" y="29494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229" name=""/>
          <p:cNvSpPr/>
          <p:nvPr/>
        </p:nvSpPr>
        <p:spPr>
          <a:xfrm>
            <a:off x="86400" y="39877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86400" y="27241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33028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32608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420048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514044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6093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7020000" y="53150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7959600" y="5315040"/>
            <a:ext cx="26064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 flipV="1">
            <a:off x="21178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 flipV="1">
            <a:off x="30510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 flipV="1">
            <a:off x="39844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 flipV="1">
            <a:off x="492444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 flipV="1">
            <a:off x="587052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 flipV="1">
            <a:off x="679140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 flipV="1">
            <a:off x="7750080" y="4495320"/>
            <a:ext cx="0" cy="47628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 flipV="1">
            <a:off x="8690040" y="4495320"/>
            <a:ext cx="0" cy="4762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22701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31845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413712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5070600" y="4495680"/>
            <a:ext cx="42516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601020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694368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7889760" y="44956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21178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30510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 flipV="1">
            <a:off x="398448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 flipV="1">
            <a:off x="49244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 flipV="1">
            <a:off x="587052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 flipV="1">
            <a:off x="679140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 flipV="1">
            <a:off x="7750080" y="3263400"/>
            <a:ext cx="0" cy="567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 flipV="1">
            <a:off x="8690040" y="3263400"/>
            <a:ext cx="0" cy="567000"/>
          </a:xfrm>
          <a:prstGeom prst="line">
            <a:avLst/>
          </a:prstGeom>
          <a:ln w="28440">
            <a:solidFill>
              <a:srgbClr val="b2b2b2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2320920" y="239400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3260880" y="228132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4200480" y="219240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5140440" y="2100240"/>
            <a:ext cx="3060720" cy="59868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2320920" y="36432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325440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4194000" y="36432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5133960" y="36432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6080040" y="36432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86400" y="5121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457200" y="59436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Search from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for node “</a:t>
            </a:r>
            <a:r>
              <a:rPr b="1" lang="en-CA" sz="26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01001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8223120" y="49719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8223120" y="498168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X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8204040" y="53244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1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275" name=""/>
          <p:cNvGrpSpPr/>
          <p:nvPr/>
        </p:nvGrpSpPr>
        <p:grpSpPr>
          <a:xfrm>
            <a:off x="2563920" y="941400"/>
            <a:ext cx="739800" cy="674640"/>
            <a:chOff x="2563920" y="941400"/>
            <a:chExt cx="739800" cy="674640"/>
          </a:xfrm>
        </p:grpSpPr>
        <p:sp>
          <p:nvSpPr>
            <p:cNvPr id="4276" name=""/>
            <p:cNvSpPr/>
            <p:nvPr/>
          </p:nvSpPr>
          <p:spPr>
            <a:xfrm>
              <a:off x="258300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258300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256392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79" name=""/>
          <p:cNvGrpSpPr/>
          <p:nvPr/>
        </p:nvGrpSpPr>
        <p:grpSpPr>
          <a:xfrm>
            <a:off x="3498840" y="941400"/>
            <a:ext cx="739800" cy="674640"/>
            <a:chOff x="3498840" y="941400"/>
            <a:chExt cx="739800" cy="674640"/>
          </a:xfrm>
        </p:grpSpPr>
        <p:sp>
          <p:nvSpPr>
            <p:cNvPr id="4280" name=""/>
            <p:cNvSpPr/>
            <p:nvPr/>
          </p:nvSpPr>
          <p:spPr>
            <a:xfrm>
              <a:off x="351792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51792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49884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283" name=""/>
          <p:cNvSpPr/>
          <p:nvPr/>
        </p:nvSpPr>
        <p:spPr>
          <a:xfrm>
            <a:off x="44280" y="94284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eric ID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3251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 flipH="1">
            <a:off x="216540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419112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5130720" y="128124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6076800" y="128124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289" name=""/>
          <p:cNvGrpSpPr/>
          <p:nvPr/>
        </p:nvGrpSpPr>
        <p:grpSpPr>
          <a:xfrm>
            <a:off x="7245360" y="941400"/>
            <a:ext cx="739800" cy="674640"/>
            <a:chOff x="7245360" y="941400"/>
            <a:chExt cx="739800" cy="674640"/>
          </a:xfrm>
        </p:grpSpPr>
        <p:sp>
          <p:nvSpPr>
            <p:cNvPr id="4290" name=""/>
            <p:cNvSpPr/>
            <p:nvPr/>
          </p:nvSpPr>
          <p:spPr>
            <a:xfrm>
              <a:off x="7264440" y="94140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7264440" y="95112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7245360" y="129384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293" name=""/>
          <p:cNvSpPr/>
          <p:nvPr/>
        </p:nvSpPr>
        <p:spPr>
          <a:xfrm>
            <a:off x="7004160" y="1281240"/>
            <a:ext cx="260280" cy="0"/>
          </a:xfrm>
          <a:prstGeom prst="line">
            <a:avLst/>
          </a:prstGeom>
          <a:ln w="28440">
            <a:solidFill>
              <a:srgbClr val="b2b2b2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7943760" y="1281240"/>
            <a:ext cx="411120" cy="0"/>
          </a:xfrm>
          <a:prstGeom prst="line">
            <a:avLst/>
          </a:prstGeom>
          <a:ln w="28440">
            <a:solidFill>
              <a:srgbClr val="b2b2b2"/>
            </a:solidFill>
            <a:prstDash val="sysDot"/>
            <a:miter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7286760" y="382896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7286760" y="383868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7267680" y="418140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7286760" y="259704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7286760" y="2606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7267680" y="294948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6667560" y="1609560"/>
            <a:ext cx="954000" cy="971640"/>
          </a:xfrm>
          <a:custGeom>
            <a:avLst/>
            <a:gdLst/>
            <a:ahLst/>
            <a:rect l="l" t="t" r="r" b="b"/>
            <a:pathLst>
              <a:path w="607" h="600">
                <a:moveTo>
                  <a:pt x="606" y="600"/>
                </a:moveTo>
                <a:cubicBezTo>
                  <a:pt x="592" y="542"/>
                  <a:pt x="607" y="323"/>
                  <a:pt x="522" y="252"/>
                </a:cubicBezTo>
                <a:cubicBezTo>
                  <a:pt x="437" y="181"/>
                  <a:pt x="183" y="216"/>
                  <a:pt x="96" y="174"/>
                </a:cubicBezTo>
                <a:cubicBezTo>
                  <a:pt x="9" y="132"/>
                  <a:pt x="20" y="3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6330960" y="94140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6330960" y="950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6311880" y="129384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10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5396040" y="94140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5396040" y="950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5376960" y="129384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1010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4456080" y="941400"/>
            <a:ext cx="669960" cy="66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4456080" y="950760"/>
            <a:ext cx="66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4437000" y="1293840"/>
            <a:ext cx="73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cc00"/>
                </a:solidFill>
                <a:latin typeface="Arial Unicode MS"/>
                <a:ea typeface="Arial Unicode MS"/>
              </a:rPr>
              <a:t>01001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Inse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102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Find place in name/numeric ID lists (via searc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Pick a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o estimate N, compare my numeric ID with nbr’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Log(estimate) is </a:t>
            </a:r>
            <a:r>
              <a:rPr b="0" lang="en-CA" sz="2400" spc="-1" strike="noStrike">
                <a:solidFill>
                  <a:srgbClr val="003366"/>
                </a:solidFill>
                <a:latin typeface="Symbol"/>
                <a:ea typeface="Symbol"/>
              </a:rPr>
              <a:t>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(log N) w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Pick level uniformly at random in [0, Log(estimate)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Find parents, siblings, and children by a variant of the name/numeric ID search algorith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010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Family Trees are the first overlay network supporting arbitrary keys and using O(1) pointers per 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Supports searches, insert, and delete in</a:t>
            </a:r>
            <a:br>
              <a:rPr sz="2800"/>
            </a:b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O(log N) time with optimal conges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Supports both ordered and hashed searches in the same data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support searches o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ifferent keys with only O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space by using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amily Tr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Extra Sl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Relation to Parallel Architect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Chord, Pa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Symbol"/>
                <a:ea typeface="Symbol"/>
              </a:rPr>
              <a:t>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Dynamic Hypercu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Viceroy, Koor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Symbol"/>
                <a:ea typeface="Symbol"/>
              </a:rPr>
              <a:t>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Viceroy: Dynamic Butterfly Netwo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Symbol"/>
                <a:ea typeface="Symbol"/>
              </a:rPr>
              <a:t>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Koorde: Dynamic de Bruijn Netwo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SkipNet, Skip 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Symbol"/>
                <a:ea typeface="Symbol"/>
              </a:rPr>
              <a:t>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ombination of Skip List and Hypercu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66"/>
                </a:solidFill>
                <a:latin typeface="Arial"/>
              </a:rPr>
              <a:t>Family Trees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Symbol"/>
                <a:ea typeface="Symbol"/>
              </a:rPr>
              <a:t>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ombination of Skip List and Butterfly Network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Family Tree No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Randomization used to get a balanced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Each node has 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3366"/>
                </a:solidFill>
                <a:latin typeface="Arial"/>
              </a:rPr>
              <a:t>Name ID</a:t>
            </a: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: an arbitrary ordered ke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3366"/>
                </a:solidFill>
                <a:latin typeface="Arial"/>
              </a:rPr>
              <a:t>Numeric ID</a:t>
            </a: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: a sequence of random bi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3366"/>
                </a:solidFill>
                <a:latin typeface="Arial"/>
              </a:rPr>
              <a:t>Level</a:t>
            </a: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: random integer in  [0, log 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des are connected in lists at various levels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ch list is sorted by name ID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Nodes at level </a:t>
            </a:r>
            <a:r>
              <a:rPr b="0" i="1" lang="en-CA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 sharing a numeric ID prefix of length </a:t>
            </a:r>
            <a:r>
              <a:rPr b="0" i="1" lang="en-CA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 are in the same list at that level. So at level </a:t>
            </a:r>
            <a:r>
              <a:rPr b="0" i="1" lang="en-CA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, there are 2</a:t>
            </a:r>
            <a:r>
              <a:rPr b="0" i="1" lang="en-CA" sz="2400" spc="-1" strike="noStrike" baseline="30000">
                <a:solidFill>
                  <a:srgbClr val="003366"/>
                </a:solidFill>
                <a:latin typeface="Arial"/>
              </a:rPr>
              <a:t>L</a:t>
            </a:r>
            <a:r>
              <a:rPr b="0" lang="en-CA" sz="2400" spc="-1" strike="noStrike" baseline="30000">
                <a:solidFill>
                  <a:srgbClr val="003366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lis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Example Family Tree Structu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114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118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122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126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130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134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138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8204040" y="3695760"/>
            <a:ext cx="739800" cy="674640"/>
            <a:chOff x="8204040" y="3695760"/>
            <a:chExt cx="739800" cy="674640"/>
          </a:xfrm>
        </p:grpSpPr>
        <p:sp>
          <p:nvSpPr>
            <p:cNvPr id="142" name=""/>
            <p:cNvSpPr/>
            <p:nvPr/>
          </p:nvSpPr>
          <p:spPr>
            <a:xfrm>
              <a:off x="8223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04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The level 0 nodes form a single list, sorted by name 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Example Family Tree Structu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156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160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164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168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172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176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180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8204040" y="3695760"/>
            <a:ext cx="739800" cy="674640"/>
            <a:chOff x="8204040" y="3695760"/>
            <a:chExt cx="739800" cy="674640"/>
          </a:xfrm>
        </p:grpSpPr>
        <p:sp>
          <p:nvSpPr>
            <p:cNvPr id="184" name=""/>
            <p:cNvSpPr/>
            <p:nvPr/>
          </p:nvSpPr>
          <p:spPr>
            <a:xfrm>
              <a:off x="8223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3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04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188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571840" y="2552760"/>
            <a:ext cx="739800" cy="674640"/>
            <a:chOff x="2571840" y="2552760"/>
            <a:chExt cx="739800" cy="674640"/>
          </a:xfrm>
        </p:grpSpPr>
        <p:sp>
          <p:nvSpPr>
            <p:cNvPr id="192" name=""/>
            <p:cNvSpPr/>
            <p:nvPr/>
          </p:nvSpPr>
          <p:spPr>
            <a:xfrm>
              <a:off x="25909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909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718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196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443480" y="2552760"/>
            <a:ext cx="739800" cy="674640"/>
            <a:chOff x="4443480" y="2552760"/>
            <a:chExt cx="739800" cy="674640"/>
          </a:xfrm>
        </p:grpSpPr>
        <p:sp>
          <p:nvSpPr>
            <p:cNvPr id="200" name=""/>
            <p:cNvSpPr/>
            <p:nvPr/>
          </p:nvSpPr>
          <p:spPr>
            <a:xfrm>
              <a:off x="44625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625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434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204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208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212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204040" y="2552760"/>
            <a:ext cx="739800" cy="674640"/>
            <a:chOff x="8204040" y="2552760"/>
            <a:chExt cx="739800" cy="674640"/>
          </a:xfrm>
        </p:grpSpPr>
        <p:sp>
          <p:nvSpPr>
            <p:cNvPr id="216" name=""/>
            <p:cNvSpPr/>
            <p:nvPr/>
          </p:nvSpPr>
          <p:spPr>
            <a:xfrm>
              <a:off x="8223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23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04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49528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The level 1 nodes form two interleaved lists: nodes with numeric ID prefix 0…, and</a:t>
            </a:r>
            <a:br>
              <a:rPr sz="2800"/>
            </a:b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nodes with numeric ID prefix 1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Example Family Tree Structu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237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241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245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249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253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257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261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204040" y="3695760"/>
            <a:ext cx="739800" cy="674640"/>
            <a:chOff x="8204040" y="3695760"/>
            <a:chExt cx="739800" cy="674640"/>
          </a:xfrm>
        </p:grpSpPr>
        <p:sp>
          <p:nvSpPr>
            <p:cNvPr id="265" name=""/>
            <p:cNvSpPr/>
            <p:nvPr/>
          </p:nvSpPr>
          <p:spPr>
            <a:xfrm>
              <a:off x="8223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23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04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269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571840" y="2552760"/>
            <a:ext cx="739800" cy="674640"/>
            <a:chOff x="2571840" y="2552760"/>
            <a:chExt cx="739800" cy="674640"/>
          </a:xfrm>
        </p:grpSpPr>
        <p:sp>
          <p:nvSpPr>
            <p:cNvPr id="273" name=""/>
            <p:cNvSpPr/>
            <p:nvPr/>
          </p:nvSpPr>
          <p:spPr>
            <a:xfrm>
              <a:off x="25909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09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718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277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443480" y="2552760"/>
            <a:ext cx="739800" cy="674640"/>
            <a:chOff x="4443480" y="2552760"/>
            <a:chExt cx="739800" cy="674640"/>
          </a:xfrm>
        </p:grpSpPr>
        <p:sp>
          <p:nvSpPr>
            <p:cNvPr id="281" name=""/>
            <p:cNvSpPr/>
            <p:nvPr/>
          </p:nvSpPr>
          <p:spPr>
            <a:xfrm>
              <a:off x="44625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625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434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285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289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293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8204040" y="2552760"/>
            <a:ext cx="739800" cy="674640"/>
            <a:chOff x="8204040" y="2552760"/>
            <a:chExt cx="739800" cy="674640"/>
          </a:xfrm>
        </p:grpSpPr>
        <p:sp>
          <p:nvSpPr>
            <p:cNvPr id="297" name=""/>
            <p:cNvSpPr/>
            <p:nvPr/>
          </p:nvSpPr>
          <p:spPr>
            <a:xfrm>
              <a:off x="8223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23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04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301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305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309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443480" y="1320840"/>
            <a:ext cx="739800" cy="674640"/>
            <a:chOff x="4443480" y="1320840"/>
            <a:chExt cx="739800" cy="674640"/>
          </a:xfrm>
        </p:grpSpPr>
        <p:sp>
          <p:nvSpPr>
            <p:cNvPr id="313" name=""/>
            <p:cNvSpPr/>
            <p:nvPr/>
          </p:nvSpPr>
          <p:spPr>
            <a:xfrm>
              <a:off x="44625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625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434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317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321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325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8204040" y="1320840"/>
            <a:ext cx="739800" cy="674640"/>
            <a:chOff x="8204040" y="1320840"/>
            <a:chExt cx="739800" cy="674640"/>
          </a:xfrm>
        </p:grpSpPr>
        <p:sp>
          <p:nvSpPr>
            <p:cNvPr id="329" name=""/>
            <p:cNvSpPr/>
            <p:nvPr/>
          </p:nvSpPr>
          <p:spPr>
            <a:xfrm>
              <a:off x="8223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23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04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The level 2 nodes form four interleaved lists:</a:t>
            </a:r>
            <a:br>
              <a:rPr sz="2600"/>
            </a:b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nodes with numeric ID 00…, 01…, 10…, and 11…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918480" y="1987560"/>
            <a:ext cx="139680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7204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640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25520" y="1987560"/>
            <a:ext cx="1397160" cy="56664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763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Example Family Tree Structu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635120" y="3695760"/>
            <a:ext cx="739800" cy="674640"/>
            <a:chOff x="1635120" y="3695760"/>
            <a:chExt cx="739800" cy="674640"/>
          </a:xfrm>
        </p:grpSpPr>
        <p:sp>
          <p:nvSpPr>
            <p:cNvPr id="359" name=""/>
            <p:cNvSpPr/>
            <p:nvPr/>
          </p:nvSpPr>
          <p:spPr>
            <a:xfrm>
              <a:off x="165420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420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3512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571840" y="3695760"/>
            <a:ext cx="739800" cy="674640"/>
            <a:chOff x="2571840" y="3695760"/>
            <a:chExt cx="739800" cy="674640"/>
          </a:xfrm>
        </p:grpSpPr>
        <p:sp>
          <p:nvSpPr>
            <p:cNvPr id="363" name=""/>
            <p:cNvSpPr/>
            <p:nvPr/>
          </p:nvSpPr>
          <p:spPr>
            <a:xfrm>
              <a:off x="25909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909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718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506760" y="3695760"/>
            <a:ext cx="739800" cy="674640"/>
            <a:chOff x="3506760" y="3695760"/>
            <a:chExt cx="739800" cy="674640"/>
          </a:xfrm>
        </p:grpSpPr>
        <p:sp>
          <p:nvSpPr>
            <p:cNvPr id="367" name=""/>
            <p:cNvSpPr/>
            <p:nvPr/>
          </p:nvSpPr>
          <p:spPr>
            <a:xfrm>
              <a:off x="352584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2584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0676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443480" y="3695760"/>
            <a:ext cx="739800" cy="674640"/>
            <a:chOff x="4443480" y="3695760"/>
            <a:chExt cx="739800" cy="674640"/>
          </a:xfrm>
        </p:grpSpPr>
        <p:sp>
          <p:nvSpPr>
            <p:cNvPr id="371" name=""/>
            <p:cNvSpPr/>
            <p:nvPr/>
          </p:nvSpPr>
          <p:spPr>
            <a:xfrm>
              <a:off x="44625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625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34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396040" y="3695760"/>
            <a:ext cx="739800" cy="674640"/>
            <a:chOff x="5396040" y="3695760"/>
            <a:chExt cx="739800" cy="674640"/>
          </a:xfrm>
        </p:grpSpPr>
        <p:sp>
          <p:nvSpPr>
            <p:cNvPr id="375" name=""/>
            <p:cNvSpPr/>
            <p:nvPr/>
          </p:nvSpPr>
          <p:spPr>
            <a:xfrm>
              <a:off x="5415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15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96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332400" y="3695760"/>
            <a:ext cx="739800" cy="674640"/>
            <a:chOff x="6332400" y="3695760"/>
            <a:chExt cx="739800" cy="674640"/>
          </a:xfrm>
        </p:grpSpPr>
        <p:sp>
          <p:nvSpPr>
            <p:cNvPr id="379" name=""/>
            <p:cNvSpPr/>
            <p:nvPr/>
          </p:nvSpPr>
          <p:spPr>
            <a:xfrm>
              <a:off x="635148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5148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3240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267680" y="3695760"/>
            <a:ext cx="739800" cy="674640"/>
            <a:chOff x="7267680" y="3695760"/>
            <a:chExt cx="739800" cy="674640"/>
          </a:xfrm>
        </p:grpSpPr>
        <p:sp>
          <p:nvSpPr>
            <p:cNvPr id="383" name=""/>
            <p:cNvSpPr/>
            <p:nvPr/>
          </p:nvSpPr>
          <p:spPr>
            <a:xfrm>
              <a:off x="728676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8676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6768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8204040" y="3695760"/>
            <a:ext cx="739800" cy="674640"/>
            <a:chOff x="8204040" y="3695760"/>
            <a:chExt cx="739800" cy="674640"/>
          </a:xfrm>
        </p:grpSpPr>
        <p:sp>
          <p:nvSpPr>
            <p:cNvPr id="387" name=""/>
            <p:cNvSpPr/>
            <p:nvPr/>
          </p:nvSpPr>
          <p:spPr>
            <a:xfrm>
              <a:off x="8223120" y="3695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23120" y="3705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04040" y="4048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635120" y="2552760"/>
            <a:ext cx="739800" cy="674640"/>
            <a:chOff x="1635120" y="2552760"/>
            <a:chExt cx="739800" cy="674640"/>
          </a:xfrm>
        </p:grpSpPr>
        <p:sp>
          <p:nvSpPr>
            <p:cNvPr id="391" name=""/>
            <p:cNvSpPr/>
            <p:nvPr/>
          </p:nvSpPr>
          <p:spPr>
            <a:xfrm>
              <a:off x="165420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5420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3512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571840" y="2552760"/>
            <a:ext cx="739800" cy="674640"/>
            <a:chOff x="2571840" y="2552760"/>
            <a:chExt cx="739800" cy="674640"/>
          </a:xfrm>
        </p:grpSpPr>
        <p:sp>
          <p:nvSpPr>
            <p:cNvPr id="395" name=""/>
            <p:cNvSpPr/>
            <p:nvPr/>
          </p:nvSpPr>
          <p:spPr>
            <a:xfrm>
              <a:off x="25909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909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E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718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506760" y="2552760"/>
            <a:ext cx="739800" cy="674640"/>
            <a:chOff x="3506760" y="2552760"/>
            <a:chExt cx="739800" cy="674640"/>
          </a:xfrm>
        </p:grpSpPr>
        <p:sp>
          <p:nvSpPr>
            <p:cNvPr id="399" name=""/>
            <p:cNvSpPr/>
            <p:nvPr/>
          </p:nvSpPr>
          <p:spPr>
            <a:xfrm>
              <a:off x="352584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84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H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0676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443480" y="2552760"/>
            <a:ext cx="739800" cy="674640"/>
            <a:chOff x="4443480" y="2552760"/>
            <a:chExt cx="739800" cy="674640"/>
          </a:xfrm>
        </p:grpSpPr>
        <p:sp>
          <p:nvSpPr>
            <p:cNvPr id="403" name=""/>
            <p:cNvSpPr/>
            <p:nvPr/>
          </p:nvSpPr>
          <p:spPr>
            <a:xfrm>
              <a:off x="44625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625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K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434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396040" y="2552760"/>
            <a:ext cx="739800" cy="674640"/>
            <a:chOff x="5396040" y="2552760"/>
            <a:chExt cx="739800" cy="674640"/>
          </a:xfrm>
        </p:grpSpPr>
        <p:sp>
          <p:nvSpPr>
            <p:cNvPr id="407" name=""/>
            <p:cNvSpPr/>
            <p:nvPr/>
          </p:nvSpPr>
          <p:spPr>
            <a:xfrm>
              <a:off x="5415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15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N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96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332400" y="2552760"/>
            <a:ext cx="739800" cy="674640"/>
            <a:chOff x="6332400" y="2552760"/>
            <a:chExt cx="739800" cy="674640"/>
          </a:xfrm>
        </p:grpSpPr>
        <p:sp>
          <p:nvSpPr>
            <p:cNvPr id="411" name=""/>
            <p:cNvSpPr/>
            <p:nvPr/>
          </p:nvSpPr>
          <p:spPr>
            <a:xfrm>
              <a:off x="635148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5148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Q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3240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267680" y="2552760"/>
            <a:ext cx="739800" cy="674640"/>
            <a:chOff x="7267680" y="2552760"/>
            <a:chExt cx="739800" cy="674640"/>
          </a:xfrm>
        </p:grpSpPr>
        <p:sp>
          <p:nvSpPr>
            <p:cNvPr id="415" name=""/>
            <p:cNvSpPr/>
            <p:nvPr/>
          </p:nvSpPr>
          <p:spPr>
            <a:xfrm>
              <a:off x="728676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8676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6768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204040" y="2552760"/>
            <a:ext cx="739800" cy="674640"/>
            <a:chOff x="8204040" y="2552760"/>
            <a:chExt cx="739800" cy="674640"/>
          </a:xfrm>
        </p:grpSpPr>
        <p:sp>
          <p:nvSpPr>
            <p:cNvPr id="419" name=""/>
            <p:cNvSpPr/>
            <p:nvPr/>
          </p:nvSpPr>
          <p:spPr>
            <a:xfrm>
              <a:off x="8223120" y="255276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23120" y="256248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W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04040" y="290520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1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635120" y="1320840"/>
            <a:ext cx="739800" cy="674640"/>
            <a:chOff x="1635120" y="1320840"/>
            <a:chExt cx="739800" cy="674640"/>
          </a:xfrm>
        </p:grpSpPr>
        <p:sp>
          <p:nvSpPr>
            <p:cNvPr id="423" name=""/>
            <p:cNvSpPr/>
            <p:nvPr/>
          </p:nvSpPr>
          <p:spPr>
            <a:xfrm>
              <a:off x="165420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5420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3512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571840" y="1320840"/>
            <a:ext cx="739800" cy="674640"/>
            <a:chOff x="2571840" y="1320840"/>
            <a:chExt cx="739800" cy="674640"/>
          </a:xfrm>
        </p:grpSpPr>
        <p:sp>
          <p:nvSpPr>
            <p:cNvPr id="427" name=""/>
            <p:cNvSpPr/>
            <p:nvPr/>
          </p:nvSpPr>
          <p:spPr>
            <a:xfrm>
              <a:off x="25909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909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718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506760" y="1320840"/>
            <a:ext cx="739800" cy="674640"/>
            <a:chOff x="3506760" y="1320840"/>
            <a:chExt cx="739800" cy="674640"/>
          </a:xfrm>
        </p:grpSpPr>
        <p:sp>
          <p:nvSpPr>
            <p:cNvPr id="431" name=""/>
            <p:cNvSpPr/>
            <p:nvPr/>
          </p:nvSpPr>
          <p:spPr>
            <a:xfrm>
              <a:off x="352584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2584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G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0676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443480" y="1320840"/>
            <a:ext cx="739800" cy="674640"/>
            <a:chOff x="4443480" y="1320840"/>
            <a:chExt cx="739800" cy="674640"/>
          </a:xfrm>
        </p:grpSpPr>
        <p:sp>
          <p:nvSpPr>
            <p:cNvPr id="435" name=""/>
            <p:cNvSpPr/>
            <p:nvPr/>
          </p:nvSpPr>
          <p:spPr>
            <a:xfrm>
              <a:off x="44625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625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J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434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0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396040" y="1320840"/>
            <a:ext cx="739800" cy="674640"/>
            <a:chOff x="5396040" y="1320840"/>
            <a:chExt cx="739800" cy="674640"/>
          </a:xfrm>
        </p:grpSpPr>
        <p:sp>
          <p:nvSpPr>
            <p:cNvPr id="439" name=""/>
            <p:cNvSpPr/>
            <p:nvPr/>
          </p:nvSpPr>
          <p:spPr>
            <a:xfrm>
              <a:off x="5415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15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96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332400" y="1320840"/>
            <a:ext cx="739800" cy="674640"/>
            <a:chOff x="6332400" y="1320840"/>
            <a:chExt cx="739800" cy="674640"/>
          </a:xfrm>
        </p:grpSpPr>
        <p:sp>
          <p:nvSpPr>
            <p:cNvPr id="443" name=""/>
            <p:cNvSpPr/>
            <p:nvPr/>
          </p:nvSpPr>
          <p:spPr>
            <a:xfrm>
              <a:off x="635148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5148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3240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7267680" y="1320840"/>
            <a:ext cx="739800" cy="674640"/>
            <a:chOff x="7267680" y="1320840"/>
            <a:chExt cx="739800" cy="674640"/>
          </a:xfrm>
        </p:grpSpPr>
        <p:sp>
          <p:nvSpPr>
            <p:cNvPr id="447" name=""/>
            <p:cNvSpPr/>
            <p:nvPr/>
          </p:nvSpPr>
          <p:spPr>
            <a:xfrm>
              <a:off x="728676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8676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6768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8204040" y="1320840"/>
            <a:ext cx="739800" cy="674640"/>
            <a:chOff x="8204040" y="1320840"/>
            <a:chExt cx="739800" cy="674640"/>
          </a:xfrm>
        </p:grpSpPr>
        <p:sp>
          <p:nvSpPr>
            <p:cNvPr id="451" name=""/>
            <p:cNvSpPr/>
            <p:nvPr/>
          </p:nvSpPr>
          <p:spPr>
            <a:xfrm>
              <a:off x="8223120" y="1320840"/>
              <a:ext cx="669960" cy="6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23120" y="1330560"/>
              <a:ext cx="66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V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04040" y="1673280"/>
              <a:ext cx="73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10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86400" y="2711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6400" y="1447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3028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608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0048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4044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3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020000" y="403848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959600" y="4038480"/>
            <a:ext cx="26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1178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9844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87052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7750080" y="3219120"/>
            <a:ext cx="0" cy="47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701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3712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1020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889760" y="3219480"/>
            <a:ext cx="425520" cy="476280"/>
          </a:xfrm>
          <a:custGeom>
            <a:avLst/>
            <a:gdLst/>
            <a:ahLst/>
            <a:rect l="l" t="t" r="r" b="b"/>
            <a:pathLst>
              <a:path w="268" h="300">
                <a:moveTo>
                  <a:pt x="268" y="300"/>
                </a:moveTo>
                <a:cubicBezTo>
                  <a:pt x="259" y="280"/>
                  <a:pt x="252" y="209"/>
                  <a:pt x="216" y="180"/>
                </a:cubicBezTo>
                <a:cubicBezTo>
                  <a:pt x="180" y="151"/>
                  <a:pt x="88" y="154"/>
                  <a:pt x="52" y="124"/>
                </a:cubicBezTo>
                <a:cubicBezTo>
                  <a:pt x="16" y="94"/>
                  <a:pt x="11" y="26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11788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305100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87052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791400" y="1987560"/>
            <a:ext cx="0" cy="5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20920" y="1117440"/>
            <a:ext cx="3098880" cy="304920"/>
          </a:xfrm>
          <a:custGeom>
            <a:avLst/>
            <a:gdLst/>
            <a:ahLst/>
            <a:rect l="l" t="t" r="r" b="b"/>
            <a:pathLst>
              <a:path w="1952" h="192">
                <a:moveTo>
                  <a:pt x="0" y="180"/>
                </a:moveTo>
                <a:cubicBezTo>
                  <a:pt x="29" y="156"/>
                  <a:pt x="10" y="66"/>
                  <a:pt x="176" y="36"/>
                </a:cubicBezTo>
                <a:cubicBezTo>
                  <a:pt x="342" y="6"/>
                  <a:pt x="732" y="0"/>
                  <a:pt x="996" y="0"/>
                </a:cubicBezTo>
                <a:cubicBezTo>
                  <a:pt x="1260" y="0"/>
                  <a:pt x="1601" y="4"/>
                  <a:pt x="1760" y="36"/>
                </a:cubicBezTo>
                <a:cubicBezTo>
                  <a:pt x="1919" y="68"/>
                  <a:pt x="1912" y="160"/>
                  <a:pt x="1952" y="19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60880" y="1004760"/>
            <a:ext cx="3079440" cy="417600"/>
          </a:xfrm>
          <a:custGeom>
            <a:avLst/>
            <a:gdLst/>
            <a:ahLst/>
            <a:rect l="l" t="t" r="r" b="b"/>
            <a:pathLst>
              <a:path w="1952" h="263">
                <a:moveTo>
                  <a:pt x="0" y="251"/>
                </a:moveTo>
                <a:cubicBezTo>
                  <a:pt x="29" y="218"/>
                  <a:pt x="10" y="96"/>
                  <a:pt x="176" y="55"/>
                </a:cubicBezTo>
                <a:cubicBezTo>
                  <a:pt x="342" y="14"/>
                  <a:pt x="729" y="0"/>
                  <a:pt x="996" y="3"/>
                </a:cubicBezTo>
                <a:cubicBezTo>
                  <a:pt x="1263" y="6"/>
                  <a:pt x="1617" y="28"/>
                  <a:pt x="1776" y="71"/>
                </a:cubicBezTo>
                <a:cubicBezTo>
                  <a:pt x="1935" y="114"/>
                  <a:pt x="1915" y="223"/>
                  <a:pt x="1952" y="263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00480" y="915840"/>
            <a:ext cx="3067200" cy="506520"/>
          </a:xfrm>
          <a:custGeom>
            <a:avLst/>
            <a:gdLst/>
            <a:ahLst/>
            <a:rect l="l" t="t" r="r" b="b"/>
            <a:pathLst>
              <a:path w="1952" h="319">
                <a:moveTo>
                  <a:pt x="0" y="307"/>
                </a:moveTo>
                <a:cubicBezTo>
                  <a:pt x="29" y="266"/>
                  <a:pt x="7" y="114"/>
                  <a:pt x="172" y="63"/>
                </a:cubicBezTo>
                <a:cubicBezTo>
                  <a:pt x="337" y="12"/>
                  <a:pt x="724" y="0"/>
                  <a:pt x="992" y="3"/>
                </a:cubicBezTo>
                <a:cubicBezTo>
                  <a:pt x="1260" y="6"/>
                  <a:pt x="1620" y="30"/>
                  <a:pt x="1780" y="83"/>
                </a:cubicBezTo>
                <a:cubicBezTo>
                  <a:pt x="1940" y="136"/>
                  <a:pt x="1916" y="270"/>
                  <a:pt x="1952" y="319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40440" y="824040"/>
            <a:ext cx="3060720" cy="598320"/>
          </a:xfrm>
          <a:custGeom>
            <a:avLst/>
            <a:gdLst/>
            <a:ahLst/>
            <a:rect l="l" t="t" r="r" b="b"/>
            <a:pathLst>
              <a:path w="1952" h="377">
                <a:moveTo>
                  <a:pt x="0" y="365"/>
                </a:moveTo>
                <a:cubicBezTo>
                  <a:pt x="31" y="316"/>
                  <a:pt x="21" y="134"/>
                  <a:pt x="188" y="73"/>
                </a:cubicBezTo>
                <a:cubicBezTo>
                  <a:pt x="355" y="12"/>
                  <a:pt x="737" y="2"/>
                  <a:pt x="1000" y="1"/>
                </a:cubicBezTo>
                <a:cubicBezTo>
                  <a:pt x="1263" y="0"/>
                  <a:pt x="1609" y="6"/>
                  <a:pt x="1768" y="69"/>
                </a:cubicBezTo>
                <a:cubicBezTo>
                  <a:pt x="1927" y="132"/>
                  <a:pt x="1914" y="313"/>
                  <a:pt x="1952" y="37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20920" y="2367000"/>
            <a:ext cx="12034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5440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94000" y="2367000"/>
            <a:ext cx="122904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33960" y="2367000"/>
            <a:ext cx="121608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8004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20000" y="2367000"/>
            <a:ext cx="1209600" cy="287280"/>
          </a:xfrm>
          <a:custGeom>
            <a:avLst/>
            <a:gdLst/>
            <a:ahLst/>
            <a:rect l="l" t="t" r="r" b="b"/>
            <a:pathLst>
              <a:path w="750" h="181">
                <a:moveTo>
                  <a:pt x="0" y="177"/>
                </a:moveTo>
                <a:cubicBezTo>
                  <a:pt x="24" y="160"/>
                  <a:pt x="78" y="102"/>
                  <a:pt x="142" y="73"/>
                </a:cubicBezTo>
                <a:cubicBezTo>
                  <a:pt x="206" y="44"/>
                  <a:pt x="307" y="2"/>
                  <a:pt x="386" y="1"/>
                </a:cubicBezTo>
                <a:cubicBezTo>
                  <a:pt x="465" y="0"/>
                  <a:pt x="557" y="39"/>
                  <a:pt x="618" y="69"/>
                </a:cubicBezTo>
                <a:cubicBezTo>
                  <a:pt x="679" y="99"/>
                  <a:pt x="722" y="158"/>
                  <a:pt x="750" y="18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6400" y="38448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vel 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Level </a:t>
            </a:r>
            <a:r>
              <a:rPr b="0" i="1" lang="en-CA" sz="26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 nodes have a “</a:t>
            </a:r>
            <a:r>
              <a:rPr b="0" lang="en-CA" sz="2600" spc="-1" strike="noStrike">
                <a:solidFill>
                  <a:srgbClr val="ff3300"/>
                </a:solidFill>
                <a:latin typeface="Arial"/>
              </a:rPr>
              <a:t>mother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” pointer to the nearest node at level </a:t>
            </a:r>
            <a:r>
              <a:rPr b="0" i="1" lang="en-CA" sz="2600" spc="-1" strike="noStrike">
                <a:solidFill>
                  <a:srgbClr val="003366"/>
                </a:solidFill>
                <a:latin typeface="Arial"/>
              </a:rPr>
              <a:t>L+1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 whose numeric ID matches in </a:t>
            </a:r>
            <a:r>
              <a:rPr b="0" i="1" lang="en-CA" sz="26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 bits and whose </a:t>
            </a:r>
            <a:r>
              <a:rPr b="0" i="1" lang="en-CA" sz="2600" spc="-1" strike="noStrike">
                <a:solidFill>
                  <a:srgbClr val="003366"/>
                </a:solidFill>
                <a:latin typeface="Arial"/>
              </a:rPr>
              <a:t>(L+1)</a:t>
            </a:r>
            <a:r>
              <a:rPr b="0" lang="en-CA" sz="26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CA" sz="2600" spc="-1" strike="noStrike">
                <a:solidFill>
                  <a:srgbClr val="003366"/>
                </a:solidFill>
                <a:latin typeface="Arial"/>
              </a:rPr>
              <a:t> digit is 0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9:40:29Z</dcterms:created>
  <dc:creator>Nick Harvey</dc:creator>
  <dc:description/>
  <dc:language>en-US</dc:language>
  <cp:lastModifiedBy>Nick Harvey</cp:lastModifiedBy>
  <dcterms:modified xsi:type="dcterms:W3CDTF">2004-01-10T03:59:41Z</dcterms:modified>
  <cp:revision>29</cp:revision>
  <dc:subject/>
  <dc:title>Family Trees</dc:title>
</cp:coreProperties>
</file>